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F7C-8A37-402A-9B9A-A502939F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E0A-0E36-4EF3-A278-573E0BA0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4AA-A1A1-43DF-94FC-1C95D778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54A-385D-4395-97C5-67AC92B7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D08-8BEF-4A4C-8A1B-95A4AD9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1B1-D148-4071-9D29-4527A003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A4A-0B4D-4560-9FA3-6D04146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812-A4D0-4E8B-BA6E-6FE3768E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80F-0981-418D-96E8-ADCC2CC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7511-AE1C-466F-9357-D84A76C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879-78C8-45C5-A7B7-79DB206A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90A-889E-4C3B-9066-53FF848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1E6D-C2E5-4A5C-8E45-8DE21CBE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kg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914400"/>
            <a:ext cx="914400" cy="457200"/>
          </a:xfrm>
          <a:custGeom>
            <a:avLst/>
            <a:gdLst>
              <a:gd name="textAreaLeft" fmla="*/ 376560 w 914400"/>
              <a:gd name="textAreaRight" fmla="*/ 537840 w 9144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03:20:34Z</dcterms:created>
  <dc:creator>JOSE BENIGNO PITTI</dc:creator>
  <dc:description/>
  <dc:language>en-US</dc:language>
  <cp:lastModifiedBy>JOSE BENIGNO PITTI</cp:lastModifiedBy>
  <dcterms:modified xsi:type="dcterms:W3CDTF">1999-11-25T03:46:14Z</dcterms:modified>
  <cp:revision>1</cp:revision>
  <dc:subject/>
  <dc:title>Sin título de diapositiva</dc:title>
</cp:coreProperties>
</file>