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8D5-704E-45C5-A758-B357FCCC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1A2-FA26-49FD-8136-0AED3A4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032-36B9-4424-822D-E37169D9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CF2-98F6-467B-8AF7-77A5E4AA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FED-6206-4966-97E2-45E59153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AB1-363F-42AC-A358-619E3F7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648-E871-46B4-85F1-D13EA0CC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894-C4A4-4743-AF25-D0065E5B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331-1598-4225-BA98-ED62A9B5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897-8D14-47B3-861A-373BF8AF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357-6D2F-4395-9649-7F287EFA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A9D-6C9B-4C9E-9C7C-156991D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377D-6074-4937-BAD1-AC8DAC1A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1.bin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9040" y="1981080"/>
            <a:ext cx="35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117144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6880" y="358128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19520" y="3714840"/>
            <a:ext cx="1066680" cy="588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90720" y="281628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05740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90720" y="144792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05520" y="358128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59240" y="3693960"/>
          <a:ext cx="1036800" cy="62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>
                    <a:hlinkClick r:id="rId7" action="ppaction://hlinksldjump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9240" y="3693960"/>
                    <a:ext cx="10368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210280" y="4127400"/>
            <a:ext cx="11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BOITIZ 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352680" y="838080"/>
            <a:ext cx="24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457200"/>
            <a:ext cx="141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7640" y="152388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Impact"/>
              </a:rPr>
              <a:t>Call Escala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Impact"/>
              </a:rPr>
              <a:t>% of Calls Escalated to 2</a:t>
            </a:r>
            <a:r>
              <a:rPr b="0" lang="en-US" sz="1800" spc="-1" strike="noStrike" baseline="30000">
                <a:solidFill>
                  <a:srgbClr val="ff6600"/>
                </a:solidFill>
                <a:latin typeface="Impact"/>
              </a:rPr>
              <a:t>nd</a:t>
            </a:r>
            <a:r>
              <a:rPr b="0" lang="en-US" sz="1800" spc="-1" strike="noStrike">
                <a:solidFill>
                  <a:srgbClr val="ff6600"/>
                </a:solidFill>
                <a:latin typeface="Impact"/>
              </a:rPr>
              <a:t> leve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2590920"/>
          <a:ext cx="714996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149960" cy="34290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04920" y="2133720"/>
          <a:ext cx="8510400" cy="33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510400" cy="3328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457200"/>
            <a:ext cx="141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75040" y="5638680"/>
            <a:ext cx="72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E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172200"/>
            <a:ext cx="485640" cy="480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15238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Impact"/>
              </a:rPr>
              <a:t>September Call Monitoring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Impact"/>
              </a:rPr>
              <a:t>% of Abandoned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1219320"/>
            <a:ext cx="2286000" cy="990360"/>
          </a:xfrm>
          <a:prstGeom prst="cloudCallout">
            <a:avLst>
              <a:gd name="adj1" fmla="val -36527"/>
              <a:gd name="adj2" fmla="val 83652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6 % Abandoned Calls (VPN Proble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280" y="5562720"/>
          <a:ext cx="8229600" cy="990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5562720"/>
                    <a:ext cx="8229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45720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7720" y="1752480"/>
            <a:ext cx="54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Impact"/>
              </a:rPr>
              <a:t>Top Callers (By Department) for September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43000" y="2398680"/>
          <a:ext cx="7238880" cy="36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398680"/>
                    <a:ext cx="7238880" cy="36100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838080"/>
            <a:ext cx="7313760" cy="685800"/>
          </a:xfrm>
          <a:custGeom>
            <a:avLst/>
            <a:gdLst>
              <a:gd name="textAreaLeft" fmla="*/ 74880 w 7313760"/>
              <a:gd name="textAreaRight" fmla="*/ 7238880 w 731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230245" h="21600">
                <a:moveTo>
                  <a:pt x="0" y="0"/>
                </a:moveTo>
                <a:lnTo>
                  <a:pt x="230245" y="0"/>
                </a:lnTo>
                <a:lnTo>
                  <a:pt x="230245" y="21600"/>
                </a:lnTo>
                <a:lnTo>
                  <a:pt x="0" y="21600"/>
                </a:lnTo>
                <a:close/>
              </a:path>
              <a:path fill="lightenLess" w="230245" h="21600">
                <a:moveTo>
                  <a:pt x="0" y="0"/>
                </a:moveTo>
                <a:lnTo>
                  <a:pt x="230245" y="0"/>
                </a:lnTo>
                <a:lnTo>
                  <a:pt x="227882" y="2363"/>
                </a:lnTo>
                <a:lnTo>
                  <a:pt x="2363" y="2363"/>
                </a:lnTo>
                <a:close/>
              </a:path>
              <a:path fill="darken" w="230245" h="21600">
                <a:moveTo>
                  <a:pt x="230245" y="0"/>
                </a:moveTo>
                <a:lnTo>
                  <a:pt x="230245" y="21600"/>
                </a:lnTo>
                <a:lnTo>
                  <a:pt x="227882" y="19237"/>
                </a:lnTo>
                <a:lnTo>
                  <a:pt x="227882" y="2363"/>
                </a:lnTo>
                <a:close/>
              </a:path>
              <a:path fill="darkenLess" w="230245" h="21600">
                <a:moveTo>
                  <a:pt x="230245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27882" y="19237"/>
                </a:lnTo>
                <a:close/>
              </a:path>
              <a:path fill="lighten" w="230245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152280"/>
            <a:ext cx="2667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33520"/>
            <a:ext cx="1495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15238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op Problems Re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00160" y="2635200"/>
          <a:ext cx="7021440" cy="335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0160" y="2635200"/>
                    <a:ext cx="7021440" cy="33591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457200"/>
            <a:ext cx="141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6200" y="1600200"/>
            <a:ext cx="65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Impact"/>
              </a:rPr>
              <a:t>Incidents Logged for September 2003  –  Network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38080" y="2438280"/>
          <a:ext cx="6934320" cy="3605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438280"/>
                    <a:ext cx="693432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467480" y="1676520"/>
            <a:ext cx="1219320" cy="838080"/>
          </a:xfrm>
          <a:prstGeom prst="cloudCallout">
            <a:avLst>
              <a:gd name="adj1" fmla="val -81250"/>
              <a:gd name="adj2" fmla="val 1227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8288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PN connection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457200"/>
            <a:ext cx="134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6440" y="1600200"/>
            <a:ext cx="77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Impact"/>
              </a:rPr>
              <a:t>Incidents Logged for January to September 2003 – Hardware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71600" y="2590920"/>
          <a:ext cx="6480000" cy="384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590920"/>
                    <a:ext cx="6480000" cy="38433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162920" y="1752480"/>
            <a:ext cx="1752480" cy="1143000"/>
          </a:xfrm>
          <a:prstGeom prst="cloudCallout">
            <a:avLst>
              <a:gd name="adj1" fmla="val -35324"/>
              <a:gd name="adj2" fmla="val 686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19810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 related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457200"/>
            <a:ext cx="134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1600200"/>
            <a:ext cx="666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Impact"/>
              </a:rPr>
              <a:t>Incidents Logged for Jan to September 2003  –  Software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95280" y="2514600"/>
          <a:ext cx="6705720" cy="358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514600"/>
                    <a:ext cx="6705720" cy="35812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457200"/>
            <a:ext cx="141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1447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Impact"/>
              </a:rPr>
              <a:t>Call Escala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Impact"/>
              </a:rPr>
              <a:t>% of Calls Escalated to 2</a:t>
            </a:r>
            <a:r>
              <a:rPr b="0" lang="en-US" sz="1800" spc="-1" strike="noStrike" baseline="30000">
                <a:solidFill>
                  <a:srgbClr val="ff3399"/>
                </a:solidFill>
                <a:latin typeface="Impact"/>
              </a:rPr>
              <a:t>nd</a:t>
            </a:r>
            <a:r>
              <a:rPr b="0" lang="en-US" sz="1800" spc="-1" strike="noStrike">
                <a:solidFill>
                  <a:srgbClr val="ff3399"/>
                </a:solidFill>
                <a:latin typeface="Impact"/>
              </a:rPr>
              <a:t> leve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286000"/>
          <a:ext cx="7162920" cy="390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286000"/>
                    <a:ext cx="7162920" cy="39052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772400" y="3581280"/>
            <a:ext cx="990720" cy="838440"/>
          </a:xfrm>
          <a:prstGeom prst="cloudCallout">
            <a:avLst>
              <a:gd name="adj1" fmla="val -43750"/>
              <a:gd name="adj2" fmla="val 6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373392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s server hang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457200"/>
            <a:ext cx="134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7640" y="152388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66"/>
                </a:solidFill>
                <a:uFillTx/>
                <a:latin typeface="Impact"/>
              </a:rPr>
              <a:t>Call Escala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Impact"/>
              </a:rPr>
              <a:t>% of Calls Escalated to 2</a:t>
            </a:r>
            <a:r>
              <a:rPr b="0" lang="en-US" sz="1800" spc="-1" strike="noStrike" baseline="30000">
                <a:solidFill>
                  <a:srgbClr val="993366"/>
                </a:solidFill>
                <a:latin typeface="Impact"/>
              </a:rPr>
              <a:t>nd</a:t>
            </a:r>
            <a:r>
              <a:rPr b="0" lang="en-US" sz="1800" spc="-1" strike="noStrike">
                <a:solidFill>
                  <a:srgbClr val="993366"/>
                </a:solidFill>
                <a:latin typeface="Impact"/>
              </a:rPr>
              <a:t> leve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514600"/>
          <a:ext cx="7315200" cy="359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514600"/>
                    <a:ext cx="7315200" cy="35942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620120" y="3048120"/>
            <a:ext cx="1218960" cy="685800"/>
          </a:xfrm>
          <a:prstGeom prst="cloudCallout">
            <a:avLst>
              <a:gd name="adj1" fmla="val -45703"/>
              <a:gd name="adj2" fmla="val 96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276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m probl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990720" y="2514600"/>
          <a:ext cx="72007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7200720" cy="36576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457200"/>
            <a:ext cx="134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640" y="152388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00"/>
                </a:solidFill>
                <a:uFillTx/>
                <a:latin typeface="Impact"/>
              </a:rPr>
              <a:t>Call Escala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% of Calls Escalated to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Impact"/>
              </a:rPr>
              <a:t>nd</a:t>
            </a: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 leve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08:53Z</dcterms:created>
  <dc:creator>AKP616</dc:creator>
  <dc:description/>
  <dc:language>en-US</dc:language>
  <cp:lastModifiedBy>akp616</cp:lastModifiedBy>
  <dcterms:modified xsi:type="dcterms:W3CDTF">2003-10-30T01:34:13Z</dcterms:modified>
  <cp:revision>130</cp:revision>
  <dc:subject/>
  <dc:title>PowerPoint Presentation</dc:title>
</cp:coreProperties>
</file>