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448-13F9-4FCF-AB47-6B4B2633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A3B-1793-4D31-93F1-736D36F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A90-1358-40B3-8225-CC7A9C9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D65-7E2A-4F31-B398-40D6C9DE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38E-1DC4-4F03-9D16-96FAB6B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694-5941-4346-8690-CA00E0F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E22-920E-433B-B7E0-0B17D67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31A-170C-4DFC-9E9A-A498DF3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4DA-7B53-450E-8C5B-A36A4E8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07E-2F08-40B2-9FD0-E36EBDA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3AB-5DA3-427F-9D5C-A7507857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50E-21CC-4E2E-A788-DF84C31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CC06-E620-4291-B10A-25D3C03B9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l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74320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Ransom"/>
              </a:rPr>
              <a:t>DO YOU WANT TO BOOGIE?!?!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533520"/>
            <a:ext cx="6524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do YOu FeEL Tod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2362320"/>
            <a:ext cx="44193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Snap ITC"/>
              </a:rPr>
              <a:t>ARE YOU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114800"/>
            <a:ext cx="4190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AD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3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ogo1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35974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3200400"/>
            <a:ext cx="304812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UK ! &gt;&g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3720" y="533520"/>
            <a:ext cx="440352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st Kidding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200400"/>
            <a:ext cx="6172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Got’ch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didn’t I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83808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t’s going to be a lonely nigh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03848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 lost my wif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3:39:54Z</dcterms:created>
  <dc:creator>David Gilbert</dc:creator>
  <dc:description/>
  <dc:language>en-US</dc:language>
  <cp:lastModifiedBy>David Gilbert</cp:lastModifiedBy>
  <dcterms:modified xsi:type="dcterms:W3CDTF">1999-01-27T14:22:38Z</dcterms:modified>
  <cp:revision>2</cp:revision>
  <dc:subject/>
  <dc:title>No Slide Title</dc:title>
</cp:coreProperties>
</file>