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CBD-ECFF-4EF1-9FB9-F929B623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F08-14C5-442F-847D-72CB136E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672C-3743-4B64-9581-6CEBCB89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491-D434-4BFE-B0F5-1417F1B1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159-A1F7-4AE6-9781-748976B7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0CC-E575-4A4D-B761-742444F7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B91-6C73-4DBB-B5A7-0DE4F5D3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166-9568-4CA1-AE51-9B6EA685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B74-0ACC-4EED-A9F8-DC3BAB0F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985-5B33-429A-A47A-8299C7C9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B03-0BCA-4E31-A91F-6C8CBC19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158-708E-4E2C-8925-3EF7DF67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6AD0-46EA-4E2C-902D-8DFAF4325DA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5680" y="990720"/>
            <a:ext cx="612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99ff"/>
                </a:solidFill>
                <a:latin typeface="全真綜藝體"/>
                <a:ea typeface="全真綜藝體"/>
              </a:rPr>
              <a:t>六年級  下學期  數學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8160" y="396252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9900cc"/>
                </a:solidFill>
                <a:latin typeface="全真綜藝體"/>
                <a:ea typeface="全真綜藝體"/>
              </a:rPr>
              <a:t>方位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59040" y="25146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例題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304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對甲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905120" y="2971800"/>
            <a:ext cx="2057400" cy="2666880"/>
            <a:chOff x="1905120" y="2971800"/>
            <a:chExt cx="2057400" cy="2666880"/>
          </a:xfrm>
        </p:grpSpPr>
        <p:sp>
          <p:nvSpPr>
            <p:cNvPr id="50" name=""/>
            <p:cNvSpPr/>
            <p:nvPr/>
          </p:nvSpPr>
          <p:spPr>
            <a:xfrm>
              <a:off x="1905120" y="434340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95480" y="297180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596960" y="5867280"/>
            <a:ext cx="60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先找出中心點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,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然後畫出方向指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304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對甲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905120" y="2971800"/>
            <a:ext cx="2057400" cy="2666880"/>
            <a:chOff x="1905120" y="2971800"/>
            <a:chExt cx="2057400" cy="2666880"/>
          </a:xfrm>
        </p:grpSpPr>
        <p:sp>
          <p:nvSpPr>
            <p:cNvPr id="59" name=""/>
            <p:cNvSpPr/>
            <p:nvPr/>
          </p:nvSpPr>
          <p:spPr>
            <a:xfrm>
              <a:off x="1905120" y="434340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95480" y="297180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744200" y="5867280"/>
            <a:ext cx="54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2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把中心點和目的地用線連接起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6304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對甲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05120" y="2971800"/>
            <a:ext cx="2057400" cy="2666880"/>
            <a:chOff x="1905120" y="2971800"/>
            <a:chExt cx="2057400" cy="2666880"/>
          </a:xfrm>
        </p:grpSpPr>
        <p:sp>
          <p:nvSpPr>
            <p:cNvPr id="69" name=""/>
            <p:cNvSpPr/>
            <p:nvPr/>
          </p:nvSpPr>
          <p:spPr>
            <a:xfrm>
              <a:off x="1905120" y="434340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95480" y="297180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839600" y="5867280"/>
            <a:ext cx="578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3.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量度向北的直線和藍色線之間的角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7372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505320"/>
            <a:ext cx="533520" cy="380880"/>
          </a:xfrm>
          <a:prstGeom prst="line">
            <a:avLst/>
          </a:prstGeom>
          <a:ln w="572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1600" y="251460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例題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3360" y="3808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對乙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181480" y="533520"/>
            <a:ext cx="2057400" cy="2666880"/>
            <a:chOff x="5181480" y="533520"/>
            <a:chExt cx="2057400" cy="2666880"/>
          </a:xfrm>
        </p:grpSpPr>
        <p:sp>
          <p:nvSpPr>
            <p:cNvPr id="82" name=""/>
            <p:cNvSpPr/>
            <p:nvPr/>
          </p:nvSpPr>
          <p:spPr>
            <a:xfrm>
              <a:off x="5181480" y="190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71840" y="53352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596960" y="5867280"/>
            <a:ext cx="60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先找出中心點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,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然後畫出方向指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2932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對乙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181480" y="533520"/>
            <a:ext cx="2057400" cy="2666880"/>
            <a:chOff x="5181480" y="533520"/>
            <a:chExt cx="2057400" cy="2666880"/>
          </a:xfrm>
        </p:grpSpPr>
        <p:sp>
          <p:nvSpPr>
            <p:cNvPr id="91" name=""/>
            <p:cNvSpPr/>
            <p:nvPr/>
          </p:nvSpPr>
          <p:spPr>
            <a:xfrm>
              <a:off x="5181480" y="190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71840" y="53352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744200" y="5867280"/>
            <a:ext cx="54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2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把中心點和目的地用線連接起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37760" y="18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2932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對乙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181480" y="533520"/>
            <a:ext cx="2057400" cy="2666880"/>
            <a:chOff x="5181480" y="533520"/>
            <a:chExt cx="2057400" cy="2666880"/>
          </a:xfrm>
        </p:grpSpPr>
        <p:sp>
          <p:nvSpPr>
            <p:cNvPr id="101" name=""/>
            <p:cNvSpPr/>
            <p:nvPr/>
          </p:nvSpPr>
          <p:spPr>
            <a:xfrm>
              <a:off x="5181480" y="190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71840" y="53352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744200" y="5867280"/>
            <a:ext cx="54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2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把中心點和目的地用線連接起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2286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1371600"/>
            <a:ext cx="774720" cy="990720"/>
          </a:xfrm>
          <a:custGeom>
            <a:avLst/>
            <a:gdLst/>
            <a:ahLst/>
            <a:rect l="l" t="t" r="r" b="b"/>
            <a:pathLst>
              <a:path w="373" h="422">
                <a:moveTo>
                  <a:pt x="217" y="0"/>
                </a:moveTo>
                <a:cubicBezTo>
                  <a:pt x="226" y="13"/>
                  <a:pt x="230" y="31"/>
                  <a:pt x="243" y="39"/>
                </a:cubicBezTo>
                <a:cubicBezTo>
                  <a:pt x="266" y="53"/>
                  <a:pt x="319" y="64"/>
                  <a:pt x="319" y="64"/>
                </a:cubicBezTo>
                <a:cubicBezTo>
                  <a:pt x="328" y="77"/>
                  <a:pt x="339" y="89"/>
                  <a:pt x="345" y="103"/>
                </a:cubicBezTo>
                <a:cubicBezTo>
                  <a:pt x="356" y="127"/>
                  <a:pt x="370" y="179"/>
                  <a:pt x="370" y="179"/>
                </a:cubicBezTo>
                <a:cubicBezTo>
                  <a:pt x="360" y="262"/>
                  <a:pt x="373" y="301"/>
                  <a:pt x="307" y="345"/>
                </a:cubicBezTo>
                <a:cubicBezTo>
                  <a:pt x="277" y="390"/>
                  <a:pt x="255" y="405"/>
                  <a:pt x="204" y="422"/>
                </a:cubicBezTo>
                <a:cubicBezTo>
                  <a:pt x="162" y="418"/>
                  <a:pt x="118" y="418"/>
                  <a:pt x="77" y="409"/>
                </a:cubicBezTo>
                <a:cubicBezTo>
                  <a:pt x="75" y="408"/>
                  <a:pt x="0" y="371"/>
                  <a:pt x="26" y="345"/>
                </a:cubicBezTo>
                <a:cubicBezTo>
                  <a:pt x="35" y="336"/>
                  <a:pt x="43" y="362"/>
                  <a:pt x="51" y="371"/>
                </a:cubicBezTo>
              </a:path>
            </a:pathLst>
          </a:custGeom>
          <a:noFill/>
          <a:ln w="38160">
            <a:solidFill>
              <a:srgbClr val="99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10:32:07Z</dcterms:created>
  <dc:creator>Guest4</dc:creator>
  <dc:description/>
  <dc:language>en-US</dc:language>
  <cp:lastModifiedBy>Lee Hooi Yock</cp:lastModifiedBy>
  <dcterms:modified xsi:type="dcterms:W3CDTF">2004-02-09T14:01:40Z</dcterms:modified>
  <cp:revision>9</cp:revision>
  <dc:subject/>
  <dc:title>無投影片標題</dc:title>
</cp:coreProperties>
</file>