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96D-F639-4161-9253-AEE38A2C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96D-724C-40C5-B55B-5D560569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2F3-4880-4CED-9AD9-D99D89CD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240-2C8E-4172-870B-AFD4A26E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949-F23E-4F76-83A0-A2853706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118-A51F-426A-A4F8-822ABCE5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2FD-3527-4EC7-A497-30B66704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4FD-A43E-45F3-A857-2150A93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BA8-D2E7-45CD-A1E2-630B80CB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F77-F29D-4483-A921-65C7EDD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B87-3F86-42F5-A5C2-3D88FBFF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488-2809-4A30-B2FE-465BBDC7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F954-F98B-464F-ACD7-FBFA9F10BEF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990720"/>
            <a:ext cx="61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99ff"/>
                </a:solidFill>
                <a:latin typeface="全真綜藝體"/>
                <a:ea typeface="全真綜藝體"/>
              </a:rPr>
              <a:t>六年級  下學期  數學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39625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9900cc"/>
                </a:solidFill>
                <a:latin typeface="全真綜藝體"/>
                <a:ea typeface="全真綜藝體"/>
              </a:rPr>
              <a:t>方位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59040" y="25146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172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181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191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9600" y="5867280"/>
            <a:ext cx="57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量度向北的直線和藍色線之間的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737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505320"/>
            <a:ext cx="533520" cy="38088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71600" y="25146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53360" y="380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204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213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37760" y="18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223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" y="5867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228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1371600"/>
            <a:ext cx="774720" cy="99072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217" y="0"/>
                </a:moveTo>
                <a:cubicBezTo>
                  <a:pt x="226" y="13"/>
                  <a:pt x="230" y="31"/>
                  <a:pt x="243" y="39"/>
                </a:cubicBezTo>
                <a:cubicBezTo>
                  <a:pt x="266" y="53"/>
                  <a:pt x="319" y="64"/>
                  <a:pt x="319" y="64"/>
                </a:cubicBezTo>
                <a:cubicBezTo>
                  <a:pt x="328" y="77"/>
                  <a:pt x="339" y="89"/>
                  <a:pt x="345" y="103"/>
                </a:cubicBezTo>
                <a:cubicBezTo>
                  <a:pt x="356" y="127"/>
                  <a:pt x="370" y="179"/>
                  <a:pt x="370" y="179"/>
                </a:cubicBezTo>
                <a:cubicBezTo>
                  <a:pt x="360" y="262"/>
                  <a:pt x="373" y="301"/>
                  <a:pt x="307" y="345"/>
                </a:cubicBezTo>
                <a:cubicBezTo>
                  <a:pt x="277" y="390"/>
                  <a:pt x="255" y="405"/>
                  <a:pt x="204" y="422"/>
                </a:cubicBezTo>
                <a:cubicBezTo>
                  <a:pt x="162" y="418"/>
                  <a:pt x="118" y="418"/>
                  <a:pt x="77" y="409"/>
                </a:cubicBezTo>
                <a:cubicBezTo>
                  <a:pt x="75" y="408"/>
                  <a:pt x="0" y="371"/>
                  <a:pt x="26" y="345"/>
                </a:cubicBezTo>
                <a:cubicBezTo>
                  <a:pt x="35" y="336"/>
                  <a:pt x="43" y="362"/>
                  <a:pt x="51" y="371"/>
                </a:cubicBezTo>
              </a:path>
            </a:pathLst>
          </a:custGeom>
          <a:noFill/>
          <a:ln w="38160">
            <a:solidFill>
              <a:srgbClr val="99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9600" y="5867280"/>
            <a:ext cx="57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量度向北的直線和藍色線之間的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4038480"/>
            <a:ext cx="4076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A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B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C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D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E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80988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06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95280" y="304920"/>
          <a:ext cx="36482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364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638680" y="609480"/>
            <a:ext cx="2819520" cy="319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已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ＮＯＡ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60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ＡＯＢ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4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ＢＯＣ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3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ＣＯＤ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7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ＤＯＥ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8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3434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105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48006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14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2578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15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579132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30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4005360"/>
            <a:ext cx="19447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以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點為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半圓規1" descr=""/>
          <p:cNvPicPr/>
          <p:nvPr/>
        </p:nvPicPr>
        <p:blipFill>
          <a:blip r:embed="rId1"/>
          <a:stretch/>
        </p:blipFill>
        <p:spPr>
          <a:xfrm>
            <a:off x="4356000" y="687240"/>
            <a:ext cx="3111480" cy="552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960600" y="30492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36920" y="541008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244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17840" y="0"/>
            <a:ext cx="239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249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268520" y="380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57600" y="1905120"/>
            <a:ext cx="11430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Rockwell Extra Bol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Rockwell Extra Bold"/>
                <a:ea typeface="文鼎粗隸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　　　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昨天我到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SimHei"/>
                <a:ea typeface="SimHei"/>
              </a:rPr>
              <a:t>大埔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公園旅行，經過金魚池，我把它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　　　　　　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的位置記錄下來。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T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代表金魚池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，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P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代表停車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9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Times New Roman"/>
                <a:ea typeface="標楷體"/>
              </a:rPr>
              <a:t>在橫線上填寫方向的名稱，並在（　）內填寫各方向英文簡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371628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518148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5105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18148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421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2438280"/>
            <a:ext cx="24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2362320"/>
            <a:ext cx="76320" cy="759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Gill Sans Ultra Bold"/>
                <a:ea typeface="華康POP1體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Gill Sans Ultra Bold"/>
                <a:ea typeface="華康POP1體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36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371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084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349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3716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733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242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Ｎ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5157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5181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2421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Ｎ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895480"/>
            <a:ext cx="2361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895480"/>
            <a:ext cx="2361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2895480"/>
            <a:ext cx="2361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038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9112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半圓規" descr=""/>
          <p:cNvPicPr/>
          <p:nvPr/>
        </p:nvPicPr>
        <p:blipFill>
          <a:blip r:embed="rId1"/>
          <a:stretch/>
        </p:blipFill>
        <p:spPr>
          <a:xfrm>
            <a:off x="2349360" y="1268280"/>
            <a:ext cx="2414880" cy="428652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264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42520" y="1143000"/>
            <a:ext cx="175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+ 15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8480" y="4143240"/>
            <a:ext cx="16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 + 4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279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18200" y="0"/>
            <a:ext cx="24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b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5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圓規" descr=""/>
          <p:cNvPicPr/>
          <p:nvPr/>
        </p:nvPicPr>
        <p:blipFill>
          <a:blip r:embed="rId1"/>
          <a:stretch/>
        </p:blipFill>
        <p:spPr>
          <a:xfrm>
            <a:off x="1851120" y="954000"/>
            <a:ext cx="5440320" cy="49831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286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960600" y="3808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60600" y="533412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9800" y="10666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724280"/>
            <a:ext cx="221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303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18200" y="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4840" y="45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flipV="1">
            <a:off x="2819520" y="13716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19520" y="1600200"/>
            <a:ext cx="121896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363204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6"/>
                </a:moveTo>
                <a:cubicBezTo>
                  <a:pt x="28" y="8"/>
                  <a:pt x="56" y="0"/>
                  <a:pt x="96" y="16"/>
                </a:cubicBezTo>
                <a:cubicBezTo>
                  <a:pt x="136" y="32"/>
                  <a:pt x="188" y="72"/>
                  <a:pt x="240" y="1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53560" y="76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396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77440" y="148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1523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1960" y="3656160"/>
            <a:ext cx="25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2600" y="41148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3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 flipV="1">
            <a:off x="2819520" y="1371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295280" y="3886200"/>
            <a:ext cx="152424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53560" y="76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4044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9880" y="518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1600" y="3656160"/>
            <a:ext cx="25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2600" y="41911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37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35812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240" y="0"/>
                </a:moveTo>
                <a:cubicBezTo>
                  <a:pt x="292" y="8"/>
                  <a:pt x="344" y="16"/>
                  <a:pt x="384" y="48"/>
                </a:cubicBezTo>
                <a:cubicBezTo>
                  <a:pt x="424" y="80"/>
                  <a:pt x="480" y="136"/>
                  <a:pt x="480" y="192"/>
                </a:cubicBezTo>
                <a:cubicBezTo>
                  <a:pt x="480" y="248"/>
                  <a:pt x="424" y="336"/>
                  <a:pt x="384" y="384"/>
                </a:cubicBezTo>
                <a:cubicBezTo>
                  <a:pt x="344" y="432"/>
                  <a:pt x="304" y="480"/>
                  <a:pt x="240" y="480"/>
                </a:cubicBezTo>
                <a:cubicBezTo>
                  <a:pt x="176" y="480"/>
                  <a:pt x="88" y="432"/>
                  <a:pt x="0" y="38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H="1">
            <a:off x="1218960" y="31240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809520" y="1447920"/>
            <a:ext cx="1600200" cy="167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844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83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4520" y="990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4120" y="1371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88960" y="4876920"/>
            <a:ext cx="25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2600" y="54864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63760" y="2476440"/>
            <a:ext cx="1003320" cy="647640"/>
          </a:xfrm>
          <a:custGeom>
            <a:avLst/>
            <a:gdLst/>
            <a:ahLst/>
            <a:rect l="l" t="t" r="r" b="b"/>
            <a:pathLst>
              <a:path w="632" h="408">
                <a:moveTo>
                  <a:pt x="8" y="408"/>
                </a:moveTo>
                <a:cubicBezTo>
                  <a:pt x="4" y="404"/>
                  <a:pt x="0" y="400"/>
                  <a:pt x="8" y="360"/>
                </a:cubicBezTo>
                <a:cubicBezTo>
                  <a:pt x="16" y="320"/>
                  <a:pt x="16" y="224"/>
                  <a:pt x="56" y="168"/>
                </a:cubicBezTo>
                <a:cubicBezTo>
                  <a:pt x="96" y="112"/>
                  <a:pt x="176" y="48"/>
                  <a:pt x="248" y="24"/>
                </a:cubicBezTo>
                <a:cubicBezTo>
                  <a:pt x="320" y="0"/>
                  <a:pt x="424" y="8"/>
                  <a:pt x="488" y="24"/>
                </a:cubicBezTo>
                <a:cubicBezTo>
                  <a:pt x="552" y="40"/>
                  <a:pt x="592" y="80"/>
                  <a:pt x="632" y="1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V="1">
            <a:off x="1905120" y="3048120"/>
            <a:ext cx="2819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057040" y="1828800"/>
            <a:ext cx="1066680" cy="2438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41148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3956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464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0256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9320" y="4876920"/>
            <a:ext cx="25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02600" y="5410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315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86080" y="3797280"/>
            <a:ext cx="1054080" cy="1054080"/>
          </a:xfrm>
          <a:custGeom>
            <a:avLst/>
            <a:gdLst/>
            <a:ahLst/>
            <a:rect l="l" t="t" r="r" b="b"/>
            <a:pathLst>
              <a:path w="664" h="664">
                <a:moveTo>
                  <a:pt x="600" y="200"/>
                </a:moveTo>
                <a:cubicBezTo>
                  <a:pt x="632" y="284"/>
                  <a:pt x="664" y="368"/>
                  <a:pt x="648" y="440"/>
                </a:cubicBezTo>
                <a:cubicBezTo>
                  <a:pt x="632" y="512"/>
                  <a:pt x="584" y="600"/>
                  <a:pt x="504" y="632"/>
                </a:cubicBezTo>
                <a:cubicBezTo>
                  <a:pt x="424" y="664"/>
                  <a:pt x="248" y="664"/>
                  <a:pt x="168" y="632"/>
                </a:cubicBezTo>
                <a:cubicBezTo>
                  <a:pt x="88" y="600"/>
                  <a:pt x="48" y="504"/>
                  <a:pt x="24" y="440"/>
                </a:cubicBezTo>
                <a:cubicBezTo>
                  <a:pt x="0" y="376"/>
                  <a:pt x="0" y="312"/>
                  <a:pt x="24" y="248"/>
                </a:cubicBezTo>
                <a:cubicBezTo>
                  <a:pt x="48" y="184"/>
                  <a:pt x="120" y="96"/>
                  <a:pt x="168" y="56"/>
                </a:cubicBezTo>
                <a:cubicBezTo>
                  <a:pt x="216" y="16"/>
                  <a:pt x="264" y="16"/>
                  <a:pt x="312" y="8"/>
                </a:cubicBezTo>
                <a:cubicBezTo>
                  <a:pt x="360" y="0"/>
                  <a:pt x="408" y="4"/>
                  <a:pt x="456" y="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604520" y="676440"/>
            <a:ext cx="47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是否相等於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604520" y="676440"/>
            <a:ext cx="47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是否相等於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2240" y="1946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不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873840" y="17870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35760" y="3540240"/>
            <a:ext cx="838080" cy="2133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1560" y="3540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2800" y="155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13880" y="567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24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59440" y="55976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05720" y="3124080"/>
            <a:ext cx="546120" cy="1003320"/>
          </a:xfrm>
          <a:custGeom>
            <a:avLst/>
            <a:gdLst/>
            <a:ahLst/>
            <a:rect l="l" t="t" r="r" b="b"/>
            <a:pathLst>
              <a:path w="344" h="632">
                <a:moveTo>
                  <a:pt x="96" y="0"/>
                </a:moveTo>
                <a:cubicBezTo>
                  <a:pt x="212" y="72"/>
                  <a:pt x="328" y="144"/>
                  <a:pt x="336" y="240"/>
                </a:cubicBezTo>
                <a:cubicBezTo>
                  <a:pt x="344" y="336"/>
                  <a:pt x="200" y="520"/>
                  <a:pt x="144" y="576"/>
                </a:cubicBezTo>
                <a:cubicBezTo>
                  <a:pt x="88" y="632"/>
                  <a:pt x="44" y="604"/>
                  <a:pt x="0" y="5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38862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1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572000" y="2285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587840" y="2362320"/>
            <a:ext cx="898560" cy="178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35560" y="414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312408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6"/>
                </a:moveTo>
                <a:cubicBezTo>
                  <a:pt x="28" y="8"/>
                  <a:pt x="56" y="0"/>
                  <a:pt x="96" y="16"/>
                </a:cubicBezTo>
                <a:cubicBezTo>
                  <a:pt x="136" y="32"/>
                  <a:pt x="188" y="72"/>
                  <a:pt x="240" y="1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06040" y="16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69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408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2362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8320" y="263196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270320" y="83808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表哥很喜歡到碼頭觀看輪船航行。表哥記錄了他在碼頭看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三艘輪船及燈塔的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5240" y="2133720"/>
            <a:ext cx="187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以燈塔為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5240" y="4191120"/>
            <a:ext cx="187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以表哥為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243828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274320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0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304812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5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449568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066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80060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080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510552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000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9720" y="27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工作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bearing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318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1447920"/>
            <a:ext cx="38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72000" y="1447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914400"/>
            <a:ext cx="716292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北（ＮＷ）　　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北（Ｎ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文鼎新藝體"/>
                <a:ea typeface="文鼎新藝體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東北（Ｎ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（Ｗ）　　　　　　　　　　　　　　東（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南（Ｓ）　　　　南（Ｓ）　　　　東南（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47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T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P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的北方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47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T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P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的東北方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10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怎麼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文鼎粗隸"/>
                <a:ea typeface="文鼎粗隸"/>
              </a:rPr>
              <a:t>看來只有八個主要方向是不夠的</a:t>
            </a:r>
            <a:r>
              <a:rPr b="0" lang="zh-TW" sz="2800" spc="-1" strike="noStrike">
                <a:solidFill>
                  <a:srgbClr val="ff3300"/>
                </a:solidFill>
                <a:latin typeface="文鼎粗隸"/>
                <a:ea typeface="文鼎粗隸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1523880"/>
            <a:ext cx="28958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1523880"/>
            <a:ext cx="28958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914400"/>
            <a:ext cx="716292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北（ＮＷ）　　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北（Ｎ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文鼎新藝體"/>
                <a:ea typeface="文鼎新藝體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東北（Ｎ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（Ｗ）　　　　　　　　　　　　　　東（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南（Ｓ）　　　　南（Ｓ）　　　　東南（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1447920"/>
            <a:ext cx="38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90920" y="1447560"/>
            <a:ext cx="3886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1447920"/>
            <a:ext cx="3886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0" y="1447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724280"/>
            <a:ext cx="64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你會怎樣說明金魚池的位置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1371600"/>
            <a:ext cx="91440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5410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首先把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T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與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P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用直線連起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09680" y="4419720"/>
            <a:ext cx="60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然後利用量角器量出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NPT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＝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25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952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由此可知，</a:t>
            </a:r>
            <a:r>
              <a:rPr b="0" lang="zh-TW" sz="3200" spc="-1" strike="noStrike" u="sng">
                <a:solidFill>
                  <a:srgbClr val="3333cc"/>
                </a:solidFill>
                <a:uFillTx/>
                <a:latin typeface="標楷體"/>
                <a:ea typeface="標楷體"/>
              </a:rPr>
              <a:t>Ｔ對Ｐ的方向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90680" y="0"/>
          <a:ext cx="44150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0"/>
                    <a:ext cx="4415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057400" y="5486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「北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東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寫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5410080"/>
            <a:ext cx="247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Ｎ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Ｅ</a:t>
            </a: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6019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還可以用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方位角</a:t>
            </a: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來表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方位角的定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由北方起依順時針方向至目標方向所做成的角，稱為方位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而且方位角是用三位數字來表示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例如︰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寫作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034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114800" y="60948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首先把指南針的圓周分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360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等份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每份是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533520"/>
          <a:ext cx="41576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1576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0384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北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N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0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即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0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66688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東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E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9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即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90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42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南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S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     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429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18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429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18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)</a:t>
            </a:r>
            <a:r>
              <a:rPr b="0" lang="zh-CN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4267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西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W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     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221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27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2670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27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)</a:t>
            </a:r>
            <a:r>
              <a:rPr b="0" lang="zh-CN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029200"/>
            <a:ext cx="5410080" cy="1218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這是用方位角表示的角度</a:t>
            </a: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它是由三個數字組成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5029200"/>
            <a:ext cx="685800" cy="685800"/>
          </a:xfrm>
          <a:custGeom>
            <a:avLst/>
            <a:gdLst>
              <a:gd name="textAreaLeft" fmla="*/ 228600 w 685800"/>
              <a:gd name="textAreaRight" fmla="*/ 587520 w 6858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685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</a:rPr>
              <a:t>試用方位角表示下列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38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52480" y="25146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89548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09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4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495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可不以可以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045</a:t>
            </a:r>
            <a:r>
              <a:rPr b="0" lang="zh-TW" sz="28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來表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可以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但不常用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因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NE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的寫法較簡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447920"/>
            <a:ext cx="3124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8660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248520" y="2819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69000" y="2535120"/>
            <a:ext cx="844560" cy="803520"/>
          </a:xfrm>
          <a:custGeom>
            <a:avLst/>
            <a:gdLst/>
            <a:ahLst/>
            <a:rect l="l" t="t" r="r" b="b"/>
            <a:pathLst>
              <a:path w="532" h="506">
                <a:moveTo>
                  <a:pt x="257" y="18"/>
                </a:moveTo>
                <a:cubicBezTo>
                  <a:pt x="311" y="0"/>
                  <a:pt x="353" y="17"/>
                  <a:pt x="407" y="31"/>
                </a:cubicBezTo>
                <a:cubicBezTo>
                  <a:pt x="420" y="43"/>
                  <a:pt x="434" y="54"/>
                  <a:pt x="445" y="68"/>
                </a:cubicBezTo>
                <a:cubicBezTo>
                  <a:pt x="464" y="92"/>
                  <a:pt x="495" y="144"/>
                  <a:pt x="495" y="144"/>
                </a:cubicBezTo>
                <a:cubicBezTo>
                  <a:pt x="503" y="169"/>
                  <a:pt x="512" y="194"/>
                  <a:pt x="520" y="219"/>
                </a:cubicBezTo>
                <a:cubicBezTo>
                  <a:pt x="524" y="231"/>
                  <a:pt x="532" y="256"/>
                  <a:pt x="532" y="256"/>
                </a:cubicBezTo>
                <a:cubicBezTo>
                  <a:pt x="516" y="338"/>
                  <a:pt x="508" y="416"/>
                  <a:pt x="420" y="444"/>
                </a:cubicBezTo>
                <a:cubicBezTo>
                  <a:pt x="372" y="476"/>
                  <a:pt x="339" y="483"/>
                  <a:pt x="282" y="494"/>
                </a:cubicBezTo>
                <a:cubicBezTo>
                  <a:pt x="223" y="489"/>
                  <a:pt x="152" y="506"/>
                  <a:pt x="106" y="469"/>
                </a:cubicBezTo>
                <a:cubicBezTo>
                  <a:pt x="0" y="385"/>
                  <a:pt x="142" y="464"/>
                  <a:pt x="56" y="4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962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2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4648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可不以可以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225</a:t>
            </a:r>
            <a:r>
              <a:rPr b="0" lang="zh-TW" sz="28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來表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可以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但不常用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因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SW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的寫法較簡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06760" y="166680"/>
            <a:ext cx="7875000" cy="6366960"/>
            <a:chOff x="806760" y="166680"/>
            <a:chExt cx="7875000" cy="6366960"/>
          </a:xfrm>
        </p:grpSpPr>
        <p:sp>
          <p:nvSpPr>
            <p:cNvPr id="140" name=""/>
            <p:cNvSpPr/>
            <p:nvPr/>
          </p:nvSpPr>
          <p:spPr>
            <a:xfrm>
              <a:off x="7697880" y="3092400"/>
              <a:ext cx="98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</a:rPr>
                <a:t>090</a:t>
              </a:r>
              <a:r>
                <a:rPr b="0" lang="zh-TW" sz="2800" spc="-1" strike="noStrike" baseline="60000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806760" y="166680"/>
              <a:ext cx="6987600" cy="6366960"/>
              <a:chOff x="806760" y="166680"/>
              <a:chExt cx="6987600" cy="6366960"/>
            </a:xfrm>
          </p:grpSpPr>
          <p:sp>
            <p:nvSpPr>
              <p:cNvPr id="142" name=""/>
              <p:cNvSpPr/>
              <p:nvPr/>
            </p:nvSpPr>
            <p:spPr>
              <a:xfrm>
                <a:off x="4344480" y="6094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362320" y="1218960"/>
                <a:ext cx="4495680" cy="4190760"/>
                <a:chOff x="2362320" y="1218960"/>
                <a:chExt cx="4495680" cy="4190760"/>
              </a:xfrm>
            </p:grpSpPr>
            <p:sp>
              <p:nvSpPr>
                <p:cNvPr id="144" name=""/>
                <p:cNvSpPr/>
                <p:nvPr/>
              </p:nvSpPr>
              <p:spPr>
                <a:xfrm flipV="1">
                  <a:off x="4572000" y="1218960"/>
                  <a:ext cx="0" cy="41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362320" y="3429000"/>
                  <a:ext cx="449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881080" y="1948680"/>
                  <a:ext cx="3381840" cy="29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2921400" y="1901160"/>
                  <a:ext cx="3260160" cy="30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7027200" y="31082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5920" y="53038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29880" y="31068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西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70680" y="1341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36040" y="13352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55120" y="4797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70400" y="4911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81760" y="16668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87880" y="58910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6760" y="31050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7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70880" y="10224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10480" y="52196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3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38720" y="5357880"/>
                <a:ext cx="99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25</a:t>
                </a:r>
                <a:r>
                  <a:rPr b="0" lang="zh-TW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86080" y="100656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31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1304800">
                <a:off x="3980520" y="2539800"/>
                <a:ext cx="12182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67" swAng="5400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67" swAng="540016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32560" y="1965240"/>
                <a:ext cx="75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905760" y="138240"/>
            <a:ext cx="2207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cc00cc"/>
                </a:solidFill>
                <a:latin typeface="Times New Roman"/>
                <a:ea typeface="標楷體"/>
              </a:rPr>
              <a:t>八個主要方位角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10:32:07Z</dcterms:created>
  <dc:creator>Guest4</dc:creator>
  <dc:description/>
  <dc:language>en-US</dc:language>
  <cp:lastModifiedBy>Simon</cp:lastModifiedBy>
  <dcterms:modified xsi:type="dcterms:W3CDTF">2004-05-13T13:44:19Z</dcterms:modified>
  <cp:revision>28</cp:revision>
  <dc:subject/>
  <dc:title>無投影片標題</dc:title>
</cp:coreProperties>
</file>