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10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35.wmf" ContentType="image/x-wmf"/>
  <Override PartName="/ppt/media/image36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3505320" y="3352680"/>
            <a:ext cx="2233440" cy="23148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406440" y="762120"/>
            <a:ext cx="81788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219320" y="1600200"/>
            <a:ext cx="6933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Administración Estratégica para la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63de8"/>
                </a:solidFill>
                <a:latin typeface="Arial"/>
              </a:rPr>
              <a:t>La Planeación Estratég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836720"/>
            <a:ext cx="48006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El impacto estratégico del programa de calidad de una gran corporación manufacturera estable con respecto a los principales requisitos del negocio e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Estrategia de 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Tiempos de ciclo redu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Respuesta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Utilización de 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227484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380960" y="490680"/>
            <a:ext cx="5997600" cy="5729040"/>
            <a:chOff x="1380960" y="490680"/>
            <a:chExt cx="5997600" cy="5729040"/>
          </a:xfrm>
        </p:grpSpPr>
        <p:grpSp>
          <p:nvGrpSpPr>
            <p:cNvPr id="89" name=""/>
            <p:cNvGrpSpPr/>
            <p:nvPr/>
          </p:nvGrpSpPr>
          <p:grpSpPr>
            <a:xfrm>
              <a:off x="1380960" y="490680"/>
              <a:ext cx="5997600" cy="4385520"/>
              <a:chOff x="1380960" y="490680"/>
              <a:chExt cx="5997600" cy="4385520"/>
            </a:xfrm>
          </p:grpSpPr>
          <p:sp>
            <p:nvSpPr>
              <p:cNvPr id="90" name=""/>
              <p:cNvSpPr/>
              <p:nvPr/>
            </p:nvSpPr>
            <p:spPr>
              <a:xfrm>
                <a:off x="2474640" y="490680"/>
                <a:ext cx="4193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100" spc="-1" strike="noStrike">
                    <a:solidFill>
                      <a:srgbClr val="063de8"/>
                    </a:solidFill>
                    <a:latin typeface="Arial"/>
                  </a:rPr>
                  <a:t>Areas Estratégicas del Negocio para los Programas de Calida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90680" y="905040"/>
                <a:ext cx="92232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03640" y="907920"/>
                <a:ext cx="864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REQUISIT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25760" y="905040"/>
                <a:ext cx="792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98640" y="905040"/>
                <a:ext cx="936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313000" y="905040"/>
                <a:ext cx="23184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48080" y="905040"/>
                <a:ext cx="482112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80960" y="8953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80960" y="8953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90680" y="895320"/>
                <a:ext cx="922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13000" y="895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22360" y="895320"/>
                <a:ext cx="2224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44840" y="895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54200" y="895320"/>
                <a:ext cx="4815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69200" y="895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69200" y="895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80960" y="905040"/>
                <a:ext cx="9720" cy="161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44840" y="905040"/>
                <a:ext cx="3240" cy="161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69200" y="905040"/>
                <a:ext cx="9360" cy="161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90680" y="1069920"/>
                <a:ext cx="1154160" cy="1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06520" y="1073160"/>
                <a:ext cx="924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PRINCIPAL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25760" y="1069920"/>
                <a:ext cx="7920" cy="1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98640" y="1069920"/>
                <a:ext cx="9360" cy="1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11560" y="1069920"/>
                <a:ext cx="7920" cy="1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48080" y="1069920"/>
                <a:ext cx="4821120" cy="1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80960" y="1066680"/>
                <a:ext cx="972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90680" y="1066680"/>
                <a:ext cx="92232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13000" y="1066680"/>
                <a:ext cx="32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16240" y="1066680"/>
                <a:ext cx="22860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44840" y="1066680"/>
                <a:ext cx="32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48080" y="1066680"/>
                <a:ext cx="482112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69200" y="1066680"/>
                <a:ext cx="93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80960" y="1069920"/>
                <a:ext cx="972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44840" y="1069920"/>
                <a:ext cx="324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69200" y="1069920"/>
                <a:ext cx="936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90680" y="1233360"/>
                <a:ext cx="1154160" cy="15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02920" y="1233360"/>
                <a:ext cx="974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DEL NEGOCI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390680" y="1392120"/>
                <a:ext cx="1154160" cy="7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25760" y="1233360"/>
                <a:ext cx="7920" cy="15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25760" y="1392120"/>
                <a:ext cx="7920" cy="7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98640" y="1233360"/>
                <a:ext cx="9360" cy="15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98640" y="1392120"/>
                <a:ext cx="9360" cy="7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11560" y="1233360"/>
                <a:ext cx="7920" cy="15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11560" y="1392120"/>
                <a:ext cx="7920" cy="7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48080" y="1233360"/>
                <a:ext cx="4821120" cy="15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462480" y="1233360"/>
                <a:ext cx="300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APORTACIONES PLANEADAS DEL NEGOCI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48080" y="1392120"/>
                <a:ext cx="4821120" cy="7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80960" y="1231920"/>
                <a:ext cx="97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90680" y="1231920"/>
                <a:ext cx="115416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44840" y="123192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48080" y="1231920"/>
                <a:ext cx="48211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69200" y="1231920"/>
                <a:ext cx="936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80960" y="1233360"/>
                <a:ext cx="9720" cy="23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44840" y="1233360"/>
                <a:ext cx="3240" cy="23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369200" y="1233360"/>
                <a:ext cx="9360" cy="23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747720" y="2457000"/>
                <a:ext cx="1478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Estrategia de Utilidad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200000">
                <a:off x="886320" y="2348280"/>
                <a:ext cx="1697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Tiempos de ciclo reduci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200000">
                <a:off x="1269000" y="2458080"/>
                <a:ext cx="1480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Respuesta del merca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1716120" y="2491920"/>
                <a:ext cx="1409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Utilización de recurs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80960" y="1468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90680" y="1468440"/>
                <a:ext cx="237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28640" y="146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36560" y="1468440"/>
                <a:ext cx="265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1880" y="1468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11240" y="1468440"/>
                <a:ext cx="401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13000" y="1468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22360" y="1468440"/>
                <a:ext cx="222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44840" y="1468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54200" y="1468440"/>
                <a:ext cx="4815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69200" y="1468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380960" y="1477800"/>
                <a:ext cx="9720" cy="180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628640" y="1477800"/>
                <a:ext cx="7920" cy="180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01880" y="1477800"/>
                <a:ext cx="9360" cy="180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13000" y="1477800"/>
                <a:ext cx="9360" cy="180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372440" y="1477800"/>
                <a:ext cx="3240" cy="180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52760" y="3297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27080" y="3297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56000" y="3297240"/>
                <a:ext cx="4746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Grados de Calidad mucho más altos en la introducción de nuevos product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80960" y="3287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90680" y="3287880"/>
                <a:ext cx="237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28640" y="32878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36560" y="3287880"/>
                <a:ext cx="265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901880" y="3287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11240" y="3287880"/>
                <a:ext cx="401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3000" y="3287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22360" y="3287880"/>
                <a:ext cx="219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41600" y="3287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50960" y="3287880"/>
                <a:ext cx="4818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69200" y="3287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80960" y="3297240"/>
                <a:ext cx="9720" cy="231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28640" y="3297240"/>
                <a:ext cx="7920" cy="231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1880" y="3297240"/>
                <a:ext cx="9360" cy="231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13000" y="3297240"/>
                <a:ext cx="9360" cy="231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41600" y="3297240"/>
                <a:ext cx="9360" cy="231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69200" y="3297240"/>
                <a:ext cx="9360" cy="231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05080" y="35384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52760" y="35384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38560" y="35384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558880" y="3538440"/>
                <a:ext cx="4199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Ciclos de tiempo en la introducción de nuevos productos reducidos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80960" y="3525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90680" y="3525840"/>
                <a:ext cx="237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28640" y="3525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36560" y="3525840"/>
                <a:ext cx="265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01880" y="3525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11240" y="3525840"/>
                <a:ext cx="401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13000" y="3525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22360" y="3525840"/>
                <a:ext cx="219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41600" y="3525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50960" y="3525840"/>
                <a:ext cx="4818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69200" y="3525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80960" y="3535200"/>
                <a:ext cx="9720" cy="160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28640" y="3535200"/>
                <a:ext cx="7920" cy="160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01880" y="3535200"/>
                <a:ext cx="9360" cy="160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13000" y="3535200"/>
                <a:ext cx="9360" cy="160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41600" y="3535200"/>
                <a:ext cx="9360" cy="160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69200" y="3535200"/>
                <a:ext cx="9360" cy="160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05080" y="37083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27080" y="37083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55280" y="3708360"/>
                <a:ext cx="4335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Mayor efectividad para enfrentar la creciente competencia por calida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380960" y="3695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90680" y="3695760"/>
                <a:ext cx="237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28640" y="36957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36560" y="3695760"/>
                <a:ext cx="265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01880" y="369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11240" y="3695760"/>
                <a:ext cx="401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13000" y="369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22360" y="3695760"/>
                <a:ext cx="219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41600" y="369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50960" y="3695760"/>
                <a:ext cx="4818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69200" y="369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80960" y="3705120"/>
                <a:ext cx="972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28640" y="3705120"/>
                <a:ext cx="792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01880" y="3705120"/>
                <a:ext cx="936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313000" y="3705120"/>
                <a:ext cx="936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541600" y="3705120"/>
                <a:ext cx="936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369200" y="3705120"/>
                <a:ext cx="936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05080" y="38768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59960" y="3876840"/>
                <a:ext cx="4703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Mejoras considerables en los costos de calidad como apoyo a las utilidad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380960" y="3867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90680" y="3867120"/>
                <a:ext cx="2379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28640" y="38671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36560" y="3867120"/>
                <a:ext cx="265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01880" y="386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911240" y="3867120"/>
                <a:ext cx="401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13000" y="386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22360" y="3867120"/>
                <a:ext cx="219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41600" y="386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0960" y="3867120"/>
                <a:ext cx="4818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369200" y="386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80960" y="3876840"/>
                <a:ext cx="972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628640" y="3876840"/>
                <a:ext cx="792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01880" y="3876840"/>
                <a:ext cx="936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13000" y="3876840"/>
                <a:ext cx="936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41600" y="3876840"/>
                <a:ext cx="936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69200" y="3876840"/>
                <a:ext cx="936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05080" y="40464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54200" y="4046400"/>
                <a:ext cx="4740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Reducción de mano de obra indirecta. Mucha menos gente puede manten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7880" y="4208400"/>
                <a:ext cx="59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la calida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80960" y="40370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90680" y="4037040"/>
                <a:ext cx="237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628640" y="4037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36560" y="4037040"/>
                <a:ext cx="265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1880" y="4037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11240" y="4037040"/>
                <a:ext cx="401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13000" y="4037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22360" y="4037040"/>
                <a:ext cx="219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41600" y="4037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50960" y="4037040"/>
                <a:ext cx="4818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69200" y="4037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80960" y="4046400"/>
                <a:ext cx="9720" cy="32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628640" y="4046400"/>
                <a:ext cx="7920" cy="32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01880" y="4046400"/>
                <a:ext cx="9360" cy="32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13000" y="4046400"/>
                <a:ext cx="9360" cy="32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541600" y="4046400"/>
                <a:ext cx="9360" cy="32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69200" y="4046400"/>
                <a:ext cx="9360" cy="32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8560" y="43783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54920" y="4378320"/>
                <a:ext cx="4537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Oportunidades muy mejoradas en la estructura del trabajo de emple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80960" y="4367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90680" y="4367160"/>
                <a:ext cx="2379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28640" y="43671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36560" y="4367160"/>
                <a:ext cx="265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1880" y="436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11240" y="4367160"/>
                <a:ext cx="401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13000" y="436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322360" y="4367160"/>
                <a:ext cx="219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41600" y="436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50960" y="4367160"/>
                <a:ext cx="4818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69200" y="436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80960" y="4376880"/>
                <a:ext cx="972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28640" y="4376880"/>
                <a:ext cx="792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1880" y="4376880"/>
                <a:ext cx="936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13000" y="4376880"/>
                <a:ext cx="936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41600" y="4376880"/>
                <a:ext cx="936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69200" y="4376880"/>
                <a:ext cx="9360" cy="160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52760" y="454968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27080" y="454968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57440" y="4549680"/>
                <a:ext cx="4659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Control mucho mejor sobre las modificaciones del diseño del producto y s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66080" y="4708440"/>
                <a:ext cx="732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100" spc="-1" strike="noStrike">
                    <a:solidFill>
                      <a:srgbClr val="063de8"/>
                    </a:solidFill>
                    <a:latin typeface="Arial"/>
                  </a:rPr>
                  <a:t>desempeñ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80960" y="4537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90680" y="4537080"/>
                <a:ext cx="237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628640" y="45370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36560" y="4537080"/>
              <a:ext cx="265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1880" y="45370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11240" y="4537080"/>
              <a:ext cx="401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13000" y="45370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22360" y="4537080"/>
              <a:ext cx="219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41600" y="45370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50960" y="4537080"/>
              <a:ext cx="4818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69200" y="45370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80960" y="4546440"/>
              <a:ext cx="9720" cy="3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28640" y="4546440"/>
              <a:ext cx="7920" cy="3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1880" y="4546440"/>
              <a:ext cx="9360" cy="3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13000" y="4546440"/>
              <a:ext cx="9360" cy="3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41600" y="4546440"/>
              <a:ext cx="9360" cy="3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69200" y="4546440"/>
              <a:ext cx="9360" cy="3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27080" y="48783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54200" y="4878360"/>
              <a:ext cx="4740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Actitud más fuerte y visible para cumplir con los reglamentos y los requisi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62840" y="5040360"/>
              <a:ext cx="187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de seguridad de consumismo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80960" y="48690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90680" y="4869000"/>
              <a:ext cx="237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28640" y="48690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36560" y="4869000"/>
              <a:ext cx="265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1880" y="4869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11240" y="4869000"/>
              <a:ext cx="401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13000" y="4869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22360" y="4869000"/>
              <a:ext cx="219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41600" y="4869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50960" y="4869000"/>
              <a:ext cx="4818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69200" y="4869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80960" y="4878360"/>
              <a:ext cx="972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28640" y="4878360"/>
              <a:ext cx="792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01880" y="4878360"/>
              <a:ext cx="93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13000" y="4878360"/>
              <a:ext cx="93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41600" y="4878360"/>
              <a:ext cx="93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69200" y="4878360"/>
              <a:ext cx="93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27080" y="5210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57080" y="5210280"/>
              <a:ext cx="4722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Programas de calidad más sólidos y visibles como apoyo técnico y de ve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80960" y="51991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90680" y="5199120"/>
              <a:ext cx="237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28640" y="51991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36560" y="5199120"/>
              <a:ext cx="265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01880" y="5199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11240" y="5199120"/>
              <a:ext cx="401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3000" y="5199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22360" y="5199120"/>
              <a:ext cx="219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41600" y="5199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50960" y="5199120"/>
              <a:ext cx="4818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69200" y="5199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0960" y="5208480"/>
              <a:ext cx="9720" cy="16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28640" y="5208480"/>
              <a:ext cx="7920" cy="16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1880" y="5208480"/>
              <a:ext cx="9360" cy="16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13000" y="5208480"/>
              <a:ext cx="9360" cy="16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41600" y="5208480"/>
              <a:ext cx="9360" cy="16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69200" y="5208480"/>
              <a:ext cx="9360" cy="16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2760" y="5381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38560" y="5381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57080" y="5381640"/>
              <a:ext cx="410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Mayores oportunidades para mejorar la administración y el contr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65720" y="554040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administra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80960" y="536904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0680" y="5369040"/>
              <a:ext cx="237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28640" y="536904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36560" y="5369040"/>
              <a:ext cx="265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01880" y="53690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11240" y="5369040"/>
              <a:ext cx="401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13000" y="53690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22360" y="5369040"/>
              <a:ext cx="219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41600" y="53690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50960" y="5369040"/>
              <a:ext cx="4818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69200" y="53690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80960" y="5378400"/>
              <a:ext cx="972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8640" y="5378400"/>
              <a:ext cx="792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01880" y="5378400"/>
              <a:ext cx="93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13000" y="5378400"/>
              <a:ext cx="93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1600" y="5378400"/>
              <a:ext cx="93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9200" y="5378400"/>
              <a:ext cx="93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27080" y="5710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59960" y="5710320"/>
              <a:ext cx="377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Bases aún más sistemáticas para la delegación de autorida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0960" y="569916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90680" y="5699160"/>
              <a:ext cx="237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8640" y="569916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36560" y="5699160"/>
              <a:ext cx="265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01880" y="569916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11240" y="5699160"/>
              <a:ext cx="401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13000" y="569916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22360" y="5699160"/>
              <a:ext cx="219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41600" y="569916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50960" y="5699160"/>
              <a:ext cx="4818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69200" y="569916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80960" y="5707080"/>
              <a:ext cx="972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28640" y="5707080"/>
              <a:ext cx="792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01880" y="570708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13000" y="570708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41600" y="570708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69200" y="570708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57800" y="5881680"/>
              <a:ext cx="4597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Mejor aseguramiento del servicio al producto en la situación del minorista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80960" y="586908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90680" y="5869080"/>
              <a:ext cx="237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28640" y="58690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36560" y="5869080"/>
              <a:ext cx="265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01880" y="58690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11240" y="5869080"/>
              <a:ext cx="401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13000" y="58690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22360" y="5869080"/>
              <a:ext cx="219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41600" y="58690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50960" y="5869080"/>
              <a:ext cx="4818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69200" y="58690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80960" y="5878440"/>
              <a:ext cx="972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8640" y="5878440"/>
              <a:ext cx="792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1880" y="587844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13000" y="587844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1600" y="587844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69200" y="587844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05080" y="6051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27080" y="6051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38560" y="6051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56000" y="6051600"/>
              <a:ext cx="42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63de8"/>
                  </a:solidFill>
                  <a:latin typeface="Arial"/>
                </a:rPr>
                <a:t>Gastos y frecuencia reducidos de problemas de calidad en el campo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80960" y="60404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90680" y="6040440"/>
              <a:ext cx="237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28640" y="6040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36560" y="6040440"/>
              <a:ext cx="265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1880" y="60404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11240" y="6040440"/>
              <a:ext cx="401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13000" y="60404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22360" y="6040440"/>
              <a:ext cx="219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1600" y="60404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50960" y="6040440"/>
              <a:ext cx="4818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69200" y="60404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80960" y="6048360"/>
              <a:ext cx="972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80960" y="621036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80960" y="621036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90680" y="6210360"/>
              <a:ext cx="237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28640" y="6048360"/>
              <a:ext cx="792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28640" y="621036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36560" y="6210360"/>
              <a:ext cx="265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01880" y="604836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1880" y="621036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11240" y="6210360"/>
              <a:ext cx="401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13000" y="604836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13000" y="621036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22360" y="6210360"/>
              <a:ext cx="219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41600" y="604836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41600" y="621036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50960" y="6210360"/>
              <a:ext cx="4818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69200" y="6048360"/>
              <a:ext cx="9360" cy="16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69200" y="621036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69200" y="621036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80880" y="1752480"/>
            <a:ext cx="81788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2286000"/>
            <a:ext cx="4724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PLAN MAESTRO DE LA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5257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L.C. BEATRIZ AYALA MONTO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16081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PLAN DE LA C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2857680" y="1600200"/>
            <a:ext cx="5676840" cy="437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"/>
          <p:cNvGraphicFramePr/>
          <p:nvPr/>
        </p:nvGraphicFramePr>
        <p:xfrm>
          <a:off x="635040" y="2705040"/>
          <a:ext cx="1938240" cy="24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2705040"/>
                    <a:ext cx="19382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MANUAL DE C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5638680" cy="32385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5943600" y="2819520"/>
            <a:ext cx="24242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MANUAL DE C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371600" y="3371760"/>
            <a:ext cx="5629320" cy="2327400"/>
            <a:chOff x="1371600" y="3371760"/>
            <a:chExt cx="5629320" cy="2327400"/>
          </a:xfrm>
        </p:grpSpPr>
        <p:pic>
          <p:nvPicPr>
            <p:cNvPr id="456" name="" descr=""/>
            <p:cNvPicPr/>
            <p:nvPr/>
          </p:nvPicPr>
          <p:blipFill>
            <a:blip r:embed="rId2"/>
            <a:stretch/>
          </p:blipFill>
          <p:spPr>
            <a:xfrm>
              <a:off x="1371600" y="3371760"/>
              <a:ext cx="5477040" cy="207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" name=""/>
            <p:cNvGrpSpPr/>
            <p:nvPr/>
          </p:nvGrpSpPr>
          <p:grpSpPr>
            <a:xfrm>
              <a:off x="1523880" y="3524400"/>
              <a:ext cx="5477040" cy="2174760"/>
              <a:chOff x="1523880" y="3524400"/>
              <a:chExt cx="5477040" cy="2174760"/>
            </a:xfrm>
          </p:grpSpPr>
          <p:graphicFrame>
            <p:nvGraphicFramePr>
              <p:cNvPr id="458" name=""/>
              <p:cNvGraphicFramePr/>
              <p:nvPr/>
            </p:nvGraphicFramePr>
            <p:xfrm>
              <a:off x="1523880" y="3524400"/>
              <a:ext cx="5477040" cy="207792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4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523880" y="3524400"/>
                        <a:ext cx="5477040" cy="20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60" name=""/>
              <p:cNvGrpSpPr/>
              <p:nvPr/>
            </p:nvGrpSpPr>
            <p:grpSpPr>
              <a:xfrm>
                <a:off x="2259000" y="3817800"/>
                <a:ext cx="4626000" cy="1881360"/>
                <a:chOff x="2259000" y="3817800"/>
                <a:chExt cx="4626000" cy="188136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2259000" y="3817800"/>
                  <a:ext cx="4626000" cy="1881360"/>
                  <a:chOff x="2259000" y="3817800"/>
                  <a:chExt cx="4626000" cy="18813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2259000" y="3817800"/>
                    <a:ext cx="4549680" cy="1797120"/>
                  </a:xfrm>
                  <a:prstGeom prst="rect">
                    <a:avLst/>
                  </a:prstGeom>
                  <a:solidFill>
                    <a:srgbClr val="e6e6e6"/>
                  </a:solidFill>
                  <a:ln w="50760">
                    <a:solidFill>
                      <a:srgbClr val="e6e6e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297160" y="3859200"/>
                    <a:ext cx="4549680" cy="1798560"/>
                  </a:xfrm>
                  <a:prstGeom prst="rect">
                    <a:avLst/>
                  </a:prstGeom>
                  <a:solidFill>
                    <a:srgbClr val="808080"/>
                  </a:solidFill>
                  <a:ln w="50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335320" y="3902040"/>
                    <a:ext cx="4549680" cy="179712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3686040" y="3906720"/>
                  <a:ext cx="1852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OCEDIMIEN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859360" y="5275440"/>
                  <a:ext cx="10256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W. E. DEM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7" name=""/>
                <p:cNvGrpSpPr/>
                <p:nvPr/>
              </p:nvGrpSpPr>
              <p:grpSpPr>
                <a:xfrm>
                  <a:off x="2527200" y="4268880"/>
                  <a:ext cx="4087800" cy="982440"/>
                  <a:chOff x="2527200" y="4268880"/>
                  <a:chExt cx="4087800" cy="9824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2527200" y="4268880"/>
                    <a:ext cx="4011840" cy="896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565360" y="4309920"/>
                    <a:ext cx="4011480" cy="89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604960" y="4354560"/>
                    <a:ext cx="4010040" cy="896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1" name=""/>
                <p:cNvSpPr/>
                <p:nvPr/>
              </p:nvSpPr>
              <p:spPr>
                <a:xfrm>
                  <a:off x="2602080" y="4346640"/>
                  <a:ext cx="333036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Utilice los procedimientos y los documentos com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602080" y="4508640"/>
                  <a:ext cx="398304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herramientas de liberación que relegan los problemas que y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02080" y="4668840"/>
                  <a:ext cx="364140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e han resuelto a estado de rutina, y que permiten a la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602080" y="4829040"/>
                  <a:ext cx="380520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facultades creadoras estar disponibles para los problema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02080" y="4989600"/>
                  <a:ext cx="176976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que aún no se resuelven”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476" name="" descr=""/>
          <p:cNvPicPr/>
          <p:nvPr/>
        </p:nvPicPr>
        <p:blipFill>
          <a:blip r:embed="rId5"/>
          <a:stretch/>
        </p:blipFill>
        <p:spPr>
          <a:xfrm>
            <a:off x="3581280" y="1523880"/>
            <a:ext cx="2238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Arial"/>
              </a:rPr>
              <a:t>PROCEDIMIEN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1676520"/>
            <a:ext cx="61722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250"/>
              </a:spcBef>
              <a:buClr>
                <a:srgbClr val="114ffb"/>
              </a:buClr>
              <a:buSzPct val="150000"/>
              <a:buFont typeface="Wingdings 2" charset="2"/>
              <a:buChar char="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Deben describir las soluciones adaptadas a l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114ffb"/>
              </a:buClr>
              <a:buSzPct val="150000"/>
              <a:buFont typeface="Wingdings 2" charset="2"/>
              <a:buChar char="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Deben ser redactados por los implicados puesto que se trata de la formulación de lo que ellos  hicieron para arreglar l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114ffb"/>
              </a:buClr>
              <a:buSzPct val="150000"/>
              <a:buFont typeface="Wingdings 2" charset="2"/>
              <a:buChar char="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Debe ser un tanto flexible, de tal forma que pueda llegar a evitarse inteligentemente sin bloquear la situ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114ffb"/>
              </a:buClr>
              <a:buSzPct val="150000"/>
              <a:buFont typeface="Wingdings 2" charset="2"/>
              <a:buChar char="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Debe ser completamente adaptable de tal forma que pueda aplicarse para la resolución de un probl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114ffb"/>
              </a:buClr>
              <a:buSzPct val="150000"/>
              <a:buFont typeface="Wingdings 2" charset="2"/>
              <a:buChar char="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No deben ser fijos; deben mejorarse, en acuerdo con todos los interesados sobre sus posibles camb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114ffb"/>
              </a:buClr>
              <a:buSzPct val="150000"/>
              <a:buFont typeface="Wingdings 2" charset="2"/>
              <a:buChar char="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Deben permitir servir mejor a los cl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858000" y="1905120"/>
            <a:ext cx="19810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PLAN DE LA C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10120" y="1905120"/>
            <a:ext cx="5033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2251"/>
              </a:spcBef>
              <a:buClr>
                <a:srgbClr val="ce1800"/>
              </a:buClr>
              <a:buSzPct val="160000"/>
              <a:buFont typeface="ZapfDingbats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63de8"/>
                </a:solidFill>
                <a:latin typeface="Times New Roman"/>
              </a:rPr>
              <a:t>Cuatro principi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buClr>
                <a:srgbClr val="ce1800"/>
              </a:buClr>
              <a:buSzPct val="160000"/>
              <a:buFont typeface="ZapfDingbats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63de8"/>
                </a:solidFill>
                <a:latin typeface="Times New Roman"/>
              </a:rPr>
              <a:t>Una eta previa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2251"/>
              </a:spcBef>
              <a:buClr>
                <a:srgbClr val="ce1800"/>
              </a:buClr>
              <a:buSzPct val="160000"/>
              <a:buFont typeface="ZapfDingbats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63de8"/>
                </a:solidFill>
                <a:latin typeface="Times New Roman"/>
              </a:rPr>
              <a:t>Cuatro eta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1" lang="es-ES_tradnl" sz="3600" spc="-1" strike="noStrike">
                <a:solidFill>
                  <a:srgbClr val="063de8"/>
                </a:solidFill>
                <a:latin typeface="Times New Roman"/>
              </a:rPr>
              <a:t>inici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508480" cy="30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PRINCIPIOS DEL PLAN DE LA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3200400" y="3200400"/>
            <a:ext cx="5477040" cy="28814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528480" y="1747800"/>
            <a:ext cx="8010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1er. PRINCIPIO: "El desarrollo del plan debe prepararse cuidadosamente, de tal forma que esté destinado al </a:t>
            </a:r>
            <a:r>
              <a:rPr b="1" i="1" lang="en-US" sz="2400" spc="-1" strike="noStrike" u="sng">
                <a:solidFill>
                  <a:srgbClr val="063de8"/>
                </a:solidFill>
                <a:uFillTx/>
                <a:latin typeface="Times New Roman"/>
              </a:rPr>
              <a:t>éxito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y no al fracas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685800" y="3200400"/>
            <a:ext cx="289548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4316400" cy="5105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PRINCIPIOS DEL PLAN DE LA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2520" y="2509920"/>
            <a:ext cx="823896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 u="sng">
                <a:solidFill>
                  <a:srgbClr val="063de8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63de8"/>
              </a:buClr>
              <a:buSzPct val="160000"/>
              <a:buFont typeface="Wingdings" charset="2"/>
              <a:buChar char="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 u="sng">
                <a:solidFill>
                  <a:srgbClr val="063de8"/>
                </a:solidFill>
                <a:uFillTx/>
                <a:latin typeface="Times New Roman"/>
              </a:rPr>
              <a:t>Prioridad No. 1:</a:t>
            </a:r>
            <a:r>
              <a:rPr b="1" lang="es-ES_tradnl" sz="20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Mejoría de la satisfacción del cl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63de8"/>
                </a:solidFill>
                <a:latin typeface="Times New Roman"/>
              </a:rPr>
              <a:t>- Mejoría de la calidad total de la oferta, (producto - instructivo de utilización - asistencia técnica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63de8"/>
                </a:solidFill>
                <a:latin typeface="Times New Roman"/>
              </a:rPr>
              <a:t>- Mejoría de la conformidad (eliminación de anomalías - de errores de mercado, etc.)- Mejoría en los plazos de entreg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63de8"/>
                </a:solidFill>
                <a:latin typeface="Times New Roman"/>
              </a:rPr>
              <a:t>- Tener conformidad con una nor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63de8"/>
              </a:buClr>
              <a:buSzPct val="160000"/>
              <a:buFont typeface="Webdings" charset="2"/>
              <a:buChar char="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 u="sng">
                <a:solidFill>
                  <a:srgbClr val="063de8"/>
                </a:solidFill>
                <a:uFillTx/>
                <a:latin typeface="Times New Roman"/>
              </a:rPr>
              <a:t> </a:t>
            </a:r>
            <a:r>
              <a:rPr b="1" lang="es-ES_tradnl" sz="2000" spc="-1" strike="noStrike" u="sng">
                <a:solidFill>
                  <a:srgbClr val="063de8"/>
                </a:solidFill>
                <a:uFillTx/>
                <a:latin typeface="Times New Roman"/>
              </a:rPr>
              <a:t>Prioridad No. 2:</a:t>
            </a:r>
            <a:r>
              <a:rPr b="1" lang="es-ES_tradnl" sz="20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Aumento de la eficiencia y la eliminación de 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63de8"/>
                </a:solidFill>
                <a:latin typeface="Times New Roman"/>
              </a:rPr>
              <a:t>Los objetivos del plan deben adaptarse hacia la atención al cliente; sin embargo, también deben buscar ganancias internas aunque no tengan relación con la calidad percibida por el cliente, como es la eliminación de desperdicios, desplazamientos inútiles, trabajos idéntico repetid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1120" y="1824120"/>
            <a:ext cx="7781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2o. PRINCIPIO “"Colocar al </a:t>
            </a:r>
            <a:r>
              <a:rPr b="1" i="1" lang="en-US" sz="2400" spc="-1" strike="noStrike" u="sng">
                <a:solidFill>
                  <a:srgbClr val="063de8"/>
                </a:solidFill>
                <a:uFillTx/>
                <a:latin typeface="Times New Roman"/>
              </a:rPr>
              <a:t>cliente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en el centro de las preocupaciones", donde "el cliente siempre tiene la razón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Administración Estratégica</a:t>
            </a: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para la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438280"/>
            <a:ext cx="7620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63de8"/>
                </a:solidFill>
                <a:latin typeface="Arial"/>
              </a:rPr>
              <a:t>EXPOSIT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63de8"/>
                </a:solidFill>
                <a:latin typeface="Arial"/>
              </a:rPr>
              <a:t>Patricia Salaz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63de8"/>
                </a:solidFill>
                <a:latin typeface="Arial"/>
              </a:rPr>
              <a:t>Virginia Neri Mont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63de8"/>
                </a:solidFill>
                <a:latin typeface="Arial"/>
              </a:rPr>
              <a:t>Roberto Jesús Velázquez Ley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63de8"/>
                </a:solidFill>
                <a:latin typeface="Arial"/>
              </a:rPr>
              <a:t>Beatriz Ayala Monto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22510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PRINCIPIOS DEL PLAN DE LA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600200"/>
            <a:ext cx="7629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3er. PRINCIPIO: "El objetivo de la calidad requiere de acciones que deben realizar las células de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2502000"/>
            <a:ext cx="472428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250"/>
              </a:spcBef>
              <a:buClr>
                <a:srgbClr val="063de8"/>
              </a:buClr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063de8"/>
                </a:solidFill>
                <a:latin typeface="Times New Roman"/>
              </a:rPr>
              <a:t>El involucramiento del dirigente, promotor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63de8"/>
              </a:buClr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63de8"/>
                </a:solidFill>
                <a:latin typeface="Times New Roman"/>
              </a:rPr>
              <a:t>El nombramiento de un jefe de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buClr>
                <a:srgbClr val="063de8"/>
              </a:buClr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63de8"/>
                </a:solidFill>
                <a:latin typeface="Times New Roman"/>
              </a:rPr>
              <a:t>La creación de un comité de seguimiento compuesto por       los responsables de las células o de los departamentos  involucrados y del jefe de la ac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63de8"/>
              </a:buClr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26880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PRINCIPIOS DEL PLAN DE LA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4800" y="1671480"/>
            <a:ext cx="7934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4o. PRINCIPIO: "Las guías de programas permiten mejorar el esquema de todo proyecto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168640"/>
            <a:ext cx="5257800" cy="42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63de8"/>
              </a:buClr>
              <a:buSzPct val="140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63de8"/>
              </a:buClr>
              <a:buSzPct val="140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Definición de los objetivo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acciones priori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63de8"/>
              </a:buClr>
              <a:buSzPct val="140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Plan de acciones,  responsab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presupuesto, medios, objetiv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63de8"/>
              </a:buClr>
              <a:buSzPct val="140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63de8"/>
              </a:buClr>
              <a:buSzPct val="140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Guía del programa de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63de8"/>
              </a:buClr>
              <a:buSzPct val="140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Balance del programa - propo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63de8"/>
                </a:solidFill>
                <a:latin typeface="Times New Roman"/>
              </a:rPr>
              <a:t>del nuevo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63de8"/>
              </a:buClr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111320" cy="11192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1143000" y="4191120"/>
            <a:ext cx="239220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ETAPA PREVIA DEL PLAN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1676520"/>
            <a:ext cx="81532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En esta etapa se analizan do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1.  El </a:t>
            </a:r>
            <a:r>
              <a:rPr b="1" lang="es-MX" sz="2000" spc="-1" strike="noStrike" u="sng">
                <a:solidFill>
                  <a:srgbClr val="063de8"/>
                </a:solidFill>
                <a:uFillTx/>
                <a:latin typeface="Arial"/>
              </a:rPr>
              <a:t>posicionamiento estratégico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63de8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 es mi oferta? ¿Quiénes son mis client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es son las ofertas de la competencia? ¿Quiénes son mis competidores, su  fuerza y sus debili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es son las tendencias del medio ambien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Por qué mis clientes son todavía mis client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Por qué mis clientes serán mis clientes todavía dentro de 5 añ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es son los factores claves del éxi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 es el oficio (negocio) de la empre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algn="just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algn="just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63de8"/>
                </a:solidFill>
                <a:latin typeface="Arial"/>
              </a:rPr>
              <a:t>POSICIONAMIENTO ESTRATÉGICO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220968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600200"/>
            <a:ext cx="56390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63de8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 es el verdadero valor agregado de la oferta de la empre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63de8"/>
              </a:buClr>
              <a:buFont typeface="Arial"/>
              <a:buChar char="_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Qué compran los clientes conmigo que no encuentran en otra parte (fuera de mi competencia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Mis recursos están bien utilizados para un valor agregado út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es son los sectores donde las inversiones son indispensab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es son los que se pudieran evitar o utilizar mej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6019920" y="2362320"/>
            <a:ext cx="27432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63de8"/>
                </a:solidFill>
                <a:latin typeface="Arial"/>
              </a:rPr>
              <a:t>POSICIONAMIENTO ESTRATÉGICO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1676520"/>
            <a:ext cx="609588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63de8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63de8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es son los recursos (humanos y materiales) indispensables para la continuación y para el éxito de la activ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¿Cuáles son los puntos débiles y los puntos fuertes de la empresa: medios, personal, organización, manej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63de8"/>
              </a:buClr>
              <a:buFont typeface="Symbol" charset="2"/>
              <a:buChar char="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63de8"/>
                </a:solidFill>
                <a:latin typeface="Arial"/>
              </a:rPr>
              <a:t>Los puntos débiles vitales: ¿Pueden reducirse? ¿Cómo? ¿Con qué med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6095880" y="3429000"/>
            <a:ext cx="198936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ETAPA PREVIA DEL PLAN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676520"/>
            <a:ext cx="518148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2.  El </a:t>
            </a:r>
            <a:r>
              <a:rPr b="1" lang="es-MX" sz="2000" spc="-1" strike="noStrike" u="sng">
                <a:solidFill>
                  <a:srgbClr val="063de8"/>
                </a:solidFill>
                <a:uFillTx/>
                <a:latin typeface="Arial"/>
              </a:rPr>
              <a:t>desarrollo de l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¿Deseo realmente un cambio en la empresa con el desarrollo de la calid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¿Soy desconfiado? Estoy listo para ir por esta vía pero quiero probar para ver si continu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¿Tengo necesidad de información/capacitación profun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¿Mis colaboradores, tienen necesidad de una capacit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¿Tengo necesidad de ser aconsej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21175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TAPAS INICIALES DEL PLAN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1720" y="2070000"/>
            <a:ext cx="1876680" cy="160560"/>
          </a:xfrm>
          <a:prstGeom prst="rect">
            <a:avLst/>
          </a:prstGeom>
          <a:solidFill>
            <a:srgbClr val="ff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68200" y="2073240"/>
            <a:ext cx="54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63de8"/>
                </a:solidFill>
                <a:latin typeface="Arial"/>
              </a:rPr>
              <a:t>Clien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1720" y="2230560"/>
            <a:ext cx="1876680" cy="188640"/>
          </a:xfrm>
          <a:prstGeom prst="rect">
            <a:avLst/>
          </a:prstGeom>
          <a:solidFill>
            <a:srgbClr val="ff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22440" y="2070000"/>
            <a:ext cx="4272120" cy="160560"/>
          </a:xfrm>
          <a:prstGeom prst="rect">
            <a:avLst/>
          </a:prstGeom>
          <a:solidFill>
            <a:srgbClr val="ff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9360" y="2073240"/>
            <a:ext cx="59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63de8"/>
                </a:solidFill>
                <a:latin typeface="Arial"/>
              </a:rPr>
              <a:t>Empre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22440" y="2230560"/>
            <a:ext cx="4272120" cy="188640"/>
          </a:xfrm>
          <a:prstGeom prst="rect">
            <a:avLst/>
          </a:prstGeom>
          <a:solidFill>
            <a:srgbClr val="ff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08600" y="2070000"/>
            <a:ext cx="1825920" cy="160560"/>
          </a:xfrm>
          <a:prstGeom prst="rect">
            <a:avLst/>
          </a:prstGeom>
          <a:solidFill>
            <a:srgbClr val="ff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86680" y="2073240"/>
            <a:ext cx="84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63de8"/>
                </a:solidFill>
                <a:latin typeface="Arial"/>
              </a:rPr>
              <a:t>Proveedo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08600" y="2230560"/>
            <a:ext cx="1862280" cy="188640"/>
          </a:xfrm>
          <a:prstGeom prst="rect">
            <a:avLst/>
          </a:prstGeom>
          <a:solidFill>
            <a:srgbClr val="ff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4720" y="2057400"/>
            <a:ext cx="1903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08400" y="2057400"/>
            <a:ext cx="14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22440" y="2057400"/>
            <a:ext cx="42721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94560" y="2057400"/>
            <a:ext cx="14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08600" y="2057400"/>
            <a:ext cx="1862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570880" y="2057400"/>
            <a:ext cx="270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4720" y="2070000"/>
            <a:ext cx="2700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08400" y="2070000"/>
            <a:ext cx="1404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94560" y="2070000"/>
            <a:ext cx="1404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570880" y="2070000"/>
            <a:ext cx="2700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85000" y="2432160"/>
            <a:ext cx="5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49800" y="2440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23760" y="2440080"/>
            <a:ext cx="100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¿Cuáles son 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21960" y="2602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motivos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23040" y="2757600"/>
            <a:ext cx="81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satisfacción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5000" y="3075120"/>
            <a:ext cx="5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9800" y="30830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23760" y="3083040"/>
            <a:ext cx="100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¿Cuáles son 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21960" y="324000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motivos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21960" y="3400560"/>
            <a:ext cx="842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descontento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5000" y="3718080"/>
            <a:ext cx="5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9800" y="37260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21240" y="3726000"/>
            <a:ext cx="959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¿Qué es lo 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9440" y="3882960"/>
            <a:ext cx="1248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encuentran mejor (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20880" y="4038480"/>
            <a:ext cx="1309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de menos bien) en 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22320" y="4199040"/>
            <a:ext cx="62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mercado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83640" y="2432160"/>
            <a:ext cx="5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48440" y="2440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18080" y="2440080"/>
            <a:ext cx="162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El portafolio de producto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36640" y="26020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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03960" y="26100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21680" y="2610000"/>
            <a:ext cx="111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¿Edad promedio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36640" y="27702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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960" y="27781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19520" y="2778120"/>
            <a:ext cx="148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Productos en desarroll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36640" y="293544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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03960" y="29433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16640" y="2943360"/>
            <a:ext cx="299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Lanzamiento de nuevos productos _substitu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36640" y="310356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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03960" y="31114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3111480"/>
            <a:ext cx="207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Comparación con la competen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3640" y="3429000"/>
            <a:ext cx="5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48440" y="34369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11960" y="3436920"/>
            <a:ext cx="340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El proceso de generación de oferta total (el sistema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22760" y="3594240"/>
            <a:ext cx="489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calida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36640" y="375444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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03960" y="37623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4840" y="3762360"/>
            <a:ext cx="34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Actividades funcionales: número de empleados, costo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57760" y="3919680"/>
            <a:ext cx="254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edad promedio, formación, organizació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59200" y="4076640"/>
            <a:ext cx="306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organigrama, definición de las misiones, equipo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54160" y="4237200"/>
            <a:ext cx="3205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control de los procesos, procedimientos, formació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56680" y="4392720"/>
            <a:ext cx="317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sistema de información, de decisión, de animació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55240" y="4549680"/>
            <a:ext cx="181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proveedores, contratista, 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6640" y="48672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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03960" y="48751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15920" y="4875120"/>
            <a:ext cx="342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Administración transfuncional: organización, interfac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59920" y="5032440"/>
            <a:ext cx="309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misiones, coherencia, nivel jerárquico de relació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56680" y="5192640"/>
            <a:ext cx="317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sistema de información, de decisión, de animació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62080" y="5348160"/>
            <a:ext cx="22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36640" y="56656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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03960" y="5673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18800" y="5673600"/>
            <a:ext cx="16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Lo que espera el person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774480" y="2432160"/>
            <a:ext cx="5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Symbol"/>
                <a:ea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39280" y="2440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13600" y="2440080"/>
            <a:ext cx="100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¿Cuáles son 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11440" y="2602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motivos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111080" y="275760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satisfacción,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11800" y="2914560"/>
            <a:ext cx="989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disgusto de u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08560" y="3075120"/>
            <a:ext cx="1132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63de8"/>
                </a:solidFill>
                <a:latin typeface="Arial"/>
              </a:rPr>
              <a:t>parte y de la otra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4720" y="2419200"/>
            <a:ext cx="270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1720" y="2419200"/>
            <a:ext cx="18766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08400" y="241920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22440" y="2419200"/>
            <a:ext cx="427212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94560" y="241920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8600" y="2419200"/>
            <a:ext cx="1862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570880" y="2419200"/>
            <a:ext cx="270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4720" y="2432160"/>
            <a:ext cx="27000" cy="35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4720" y="5991120"/>
            <a:ext cx="19036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08400" y="2432160"/>
            <a:ext cx="14040" cy="35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08400" y="599112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22440" y="5991120"/>
            <a:ext cx="427212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94560" y="2432160"/>
            <a:ext cx="14040" cy="35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94560" y="599112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8600" y="5991120"/>
            <a:ext cx="1862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570880" y="2432160"/>
            <a:ext cx="27000" cy="35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570880" y="5991120"/>
            <a:ext cx="270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2120" y="1523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No. 1 </a:t>
            </a:r>
            <a:r>
              <a:rPr b="1" lang="en-US" sz="2400" spc="-1" strike="noStrike" u="sng">
                <a:solidFill>
                  <a:srgbClr val="063de8"/>
                </a:solidFill>
                <a:uFillTx/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TAPAS INICIALES DEL PLAN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4720" y="2057400"/>
            <a:ext cx="1903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08400" y="2057400"/>
            <a:ext cx="14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22440" y="2057400"/>
            <a:ext cx="42721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94560" y="2057400"/>
            <a:ext cx="14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08600" y="2057400"/>
            <a:ext cx="1862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570880" y="2057400"/>
            <a:ext cx="270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08400" y="2070000"/>
            <a:ext cx="1404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08400" y="241920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08400" y="2432160"/>
            <a:ext cx="14040" cy="35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08400" y="599112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No. 2 </a:t>
            </a:r>
            <a:r>
              <a:rPr b="1" lang="en-US" sz="2400" spc="-1" strike="noStrike" u="sng">
                <a:solidFill>
                  <a:srgbClr val="063de8"/>
                </a:solidFill>
                <a:uFillTx/>
                <a:latin typeface="Arial"/>
              </a:rPr>
              <a:t>Definición de objetivos y acciones prior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2133720"/>
            <a:ext cx="5943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63de8"/>
                </a:solidFill>
                <a:latin typeface="Arial"/>
              </a:rPr>
              <a:t>La visión del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63de8"/>
                </a:solidFill>
                <a:latin typeface="Arial"/>
              </a:rPr>
              <a:t>Los proyectos concretos, comprensibles para todos, que conciernen a la vida de todos los d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63de8"/>
                </a:solidFill>
                <a:latin typeface="Arial"/>
              </a:rPr>
              <a:t>Las transformaciones correspondientes a las expectativas del pers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63de8"/>
                </a:solidFill>
                <a:latin typeface="Arial"/>
              </a:rPr>
              <a:t>El trabajo en equipo y la formación conforme a “las herramientas de calida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943600" y="2743200"/>
            <a:ext cx="249228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TAPAS INICIALES DEL PLAN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4720" y="2057400"/>
            <a:ext cx="1903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08400" y="2057400"/>
            <a:ext cx="14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422440" y="2057400"/>
            <a:ext cx="42721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94560" y="2057400"/>
            <a:ext cx="14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08600" y="2057400"/>
            <a:ext cx="1862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570880" y="2057400"/>
            <a:ext cx="270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08400" y="2070000"/>
            <a:ext cx="1404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08400" y="241920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08400" y="2432160"/>
            <a:ext cx="14040" cy="35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08400" y="599112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21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No. 3 </a:t>
            </a:r>
            <a:r>
              <a:rPr b="1" lang="en-US" sz="2400" spc="-1" strike="noStrike" u="sng">
                <a:solidFill>
                  <a:srgbClr val="063de8"/>
                </a:solidFill>
                <a:uFillTx/>
                <a:latin typeface="Arial"/>
              </a:rPr>
              <a:t>Anuncio d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120" y="2209680"/>
            <a:ext cx="5181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63de8"/>
                </a:solidFill>
                <a:latin typeface="Arial"/>
              </a:rPr>
              <a:t>La etapa inicial No. 3 comprende el anuncio del desarrollo del programa de calidad, el cual debe comprender información a grandes rasgos sobre el mismo, cuáles son los programas de su formación y además debe incluirla estructura tanto del proyecto como del presupuesto para desarroll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1744560" cy="17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TAPAS INICIALES DEL PLAN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4720" y="2057400"/>
            <a:ext cx="1903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08400" y="2057400"/>
            <a:ext cx="14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422440" y="2057400"/>
            <a:ext cx="42721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94560" y="2057400"/>
            <a:ext cx="14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08600" y="2057400"/>
            <a:ext cx="1862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570880" y="2057400"/>
            <a:ext cx="270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408400" y="2070000"/>
            <a:ext cx="1404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08400" y="241920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08400" y="2432160"/>
            <a:ext cx="14040" cy="35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08400" y="5991120"/>
            <a:ext cx="14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63de8"/>
                </a:solidFill>
                <a:latin typeface="Arial"/>
              </a:rPr>
              <a:t>No. 4  </a:t>
            </a:r>
            <a:r>
              <a:rPr b="1" lang="es-MX" sz="2400" spc="-1" strike="noStrike" u="sng">
                <a:solidFill>
                  <a:srgbClr val="063de8"/>
                </a:solidFill>
                <a:uFillTx/>
                <a:latin typeface="Arial"/>
              </a:rPr>
              <a:t>Definición y lanzamiento del plan de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2133720"/>
            <a:ext cx="59436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Objetivos bien definidos y enum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Se cuente con los recursos y medios prec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Que los indicadores de medición estén bien definidos, conocidos y puestos en su 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Se conozcan claramente cuáles serán los puntos de control y las revisiones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Que el escalonamiento sea creíble y este sincronizado con los 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Y que se tenga una voluntad de no desviar los medios para otros trabaj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2057400" cy="167976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6400800" y="4495680"/>
            <a:ext cx="182880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1752480"/>
            <a:ext cx="81788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133720"/>
            <a:ext cx="60962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Administración Estratégica para la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257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.P. ROBERTO J. VELAZQUEZ LEY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380880" y="1752480"/>
            <a:ext cx="81788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22860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MARKETING PLAN DE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9480" y="5257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L.C. BEATRIZ AYALA MONTO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16081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MARKETING PLAN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8640" y="2019240"/>
            <a:ext cx="241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2760" y="2019240"/>
            <a:ext cx="31813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64080" y="201924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676680" y="2019240"/>
            <a:ext cx="4529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205840" y="2019240"/>
            <a:ext cx="252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8640" y="5962680"/>
            <a:ext cx="32054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64080" y="596268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676680" y="5962680"/>
            <a:ext cx="4529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58640" y="1847880"/>
            <a:ext cx="7772400" cy="4114800"/>
            <a:chOff x="458640" y="1847880"/>
            <a:chExt cx="7772400" cy="4114800"/>
          </a:xfrm>
        </p:grpSpPr>
        <p:sp>
          <p:nvSpPr>
            <p:cNvPr id="699" name=""/>
            <p:cNvSpPr/>
            <p:nvPr/>
          </p:nvSpPr>
          <p:spPr>
            <a:xfrm>
              <a:off x="482760" y="1860480"/>
              <a:ext cx="3181320" cy="1587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11160" y="1863720"/>
              <a:ext cx="53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676680" y="1860480"/>
              <a:ext cx="4373640" cy="1587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26800" y="186372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10000"/>
                  </a:solidFill>
                  <a:latin typeface="Arial"/>
                </a:rPr>
                <a:t>Propósi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8640" y="1847880"/>
              <a:ext cx="3205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664080" y="1847880"/>
              <a:ext cx="12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76680" y="1847880"/>
              <a:ext cx="4529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205840" y="1847880"/>
              <a:ext cx="252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8640" y="1860480"/>
              <a:ext cx="24120" cy="1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64080" y="1860480"/>
              <a:ext cx="12600" cy="1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205840" y="1860480"/>
              <a:ext cx="25200" cy="1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7760" y="2031840"/>
              <a:ext cx="1190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Resumen ejecu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25960" y="2503440"/>
              <a:ext cx="194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Situación mercadotecnia actu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5960" y="2975040"/>
              <a:ext cx="23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Análisis de amenazas y oportunidad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5600" y="3446640"/>
              <a:ext cx="138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Objetivos y problem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4160" y="4073400"/>
              <a:ext cx="178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Estrategia de mercadotecn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5960" y="4545000"/>
              <a:ext cx="1254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Programa de 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7400" y="501660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Presupues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8120" y="5646600"/>
              <a:ext cx="4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23480" y="2031840"/>
              <a:ext cx="447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Presenta un panorama breve del plan propuesto para que la gerencia l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29600" y="2187720"/>
              <a:ext cx="170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pueda revisar rápidamente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22760" y="2503440"/>
              <a:ext cx="3899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Presenta antecedentes relevantes del mercado, el producto, 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30680" y="2658960"/>
              <a:ext cx="183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competencia y la distribució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24200" y="2975040"/>
              <a:ext cx="435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Identifica las principales amenazas y oportunidades que podrían ten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29240" y="3130560"/>
              <a:ext cx="18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repercusiones en el producto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23480" y="3446640"/>
              <a:ext cx="447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Define los objetivos de la empresa en cuanto al producto en los camp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24200" y="3602160"/>
              <a:ext cx="4434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de ventas, participación en el mercado y utilidades y los problemas 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27800" y="3762360"/>
              <a:ext cx="170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afectarán a estos objetivo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23480" y="4073400"/>
              <a:ext cx="408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Presenta el enfoque de mercadotecnia general que se usará pa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732120" y="4232160"/>
              <a:ext cx="190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alcanzar los objetivos del pl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20960" y="4545000"/>
              <a:ext cx="442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Especifica qué se hará, quién lo hará, cuándo se hará y cuánto costar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32840" y="470376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hacerlo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24920" y="5016600"/>
              <a:ext cx="439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Un estado de las pérdidas y ganancias proyectadas que pronostica l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28160" y="5175360"/>
              <a:ext cx="2937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resultados financieros que se esperan del pl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29600" y="5486400"/>
              <a:ext cx="26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Arial"/>
                </a:rPr>
                <a:t>Indica cómo se vigilará el avance del pl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8640" y="2031840"/>
              <a:ext cx="24120" cy="393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64080" y="2031840"/>
              <a:ext cx="12600" cy="393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205840" y="2031840"/>
              <a:ext cx="25200" cy="393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8205840" y="5962680"/>
            <a:ext cx="252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MARKETING PLAN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0880" y="1676520"/>
            <a:ext cx="525780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 u="sng">
                <a:solidFill>
                  <a:srgbClr val="063de8"/>
                </a:solidFill>
                <a:uFillTx/>
                <a:latin typeface="Arial"/>
              </a:rPr>
              <a:t>Comercialización de calidad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000" spc="-1" strike="noStrike">
                <a:solidFill>
                  <a:srgbClr val="063de8"/>
                </a:solidFill>
                <a:latin typeface="Arial"/>
              </a:rPr>
              <a:t>Calidad de actuación:</a:t>
            </a: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 Se refiere a la medida en que un producto cumple con sus funciones, para lo cual fue elabo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000" spc="-1" strike="noStrike">
                <a:solidFill>
                  <a:srgbClr val="063de8"/>
                </a:solidFill>
                <a:latin typeface="Arial"/>
              </a:rPr>
              <a:t>Calidad de concordancia:</a:t>
            </a: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 Se refiere a la ausencia de defectos y a la consistencia con la que un producto produce una cantidad especificada de resultados acorde al tipo mercado para el que va dirigido el produ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8051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GERENCIA DE MERCADOTE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3520" y="1600200"/>
            <a:ext cx="54100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 u="sng">
                <a:solidFill>
                  <a:srgbClr val="063de8"/>
                </a:solidFill>
                <a:uFillTx/>
                <a:latin typeface="Arial"/>
              </a:rPr>
              <a:t>Fun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Debe tomar parte en la formulación de estrategias y políticas diseñadas para que la empresa logre una calidad total excel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Debe producir calidad de mercadotecnia, pero también calidad de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Debe efectuar cada una de sus actividades de mercadotecnia (investigación de mercadotecnia, capacitación de vendedores, publicidad, servicios a clientes y demás) sujeto a normas de calidad elev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6248520" y="2743200"/>
            <a:ext cx="15843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GERENCIA DE MERCADOTE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33520" y="1600200"/>
            <a:ext cx="52578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63de8"/>
                </a:solidFill>
                <a:uFillTx/>
                <a:latin typeface="Arial"/>
              </a:rPr>
              <a:t>Su papel dentro de la empr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4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63de8"/>
                </a:solidFill>
                <a:latin typeface="Arial"/>
              </a:rPr>
              <a:t>Asumir su 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4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63de8"/>
                </a:solidFill>
                <a:latin typeface="Arial"/>
              </a:rPr>
              <a:t>Asegura la atención a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4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63de8"/>
                </a:solidFill>
                <a:latin typeface="Arial"/>
              </a:rPr>
              <a:t>Mantener contacto con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4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63de8"/>
                </a:solidFill>
                <a:latin typeface="Arial"/>
              </a:rPr>
              <a:t>Considerar las idea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1175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08440" cy="474336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ESTRATEGIA DE MERCADOTECNICA DE LA CALIDAD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720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 u="sng">
                <a:solidFill>
                  <a:srgbClr val="063de8"/>
                </a:solidFill>
                <a:uFillTx/>
                <a:latin typeface="Arial"/>
              </a:rPr>
              <a:t>Según Dem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La calidad está en la opinión del cl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La calidad no se debe reflejar sólo en los productos de la empresa, sino en todas las actividades de é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La calidad requiere el compromiso total de los emple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La calidad requiere socios de gran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Un programa de calidad no puede rescatar un ma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Siempre es posible mejorar l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En ocasiones, para mejorar la calidad, se requieren pasos gigante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La calidad no cuesta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63de8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La calidad es necesaria, pero podría no ser ba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OMERCIALIZACION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520" y="1836720"/>
            <a:ext cx="51814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Deben centrarse en el cliente; es decir, deben proporcionar más valor a los clientes que tienen en la m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Deben ser aptas para crear consumidores y no sólo para crear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Deben constituir un sistema para proporcionar un valor a los clientes superior al de la compet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63de8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63de8"/>
                </a:solidFill>
                <a:latin typeface="Arial"/>
              </a:rPr>
              <a:t>Deben mantener una filosofía de la mercadotecnia para crear valor para el cliente y de la empresa orientada hacia el cl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2438280" cy="21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VALOR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66680" y="1828800"/>
            <a:ext cx="3733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Valor para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Satisfacción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Sistema para proporcion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Costo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Necesidad de conservar a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342900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80880" y="1752480"/>
            <a:ext cx="81788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90720" y="22860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63de8"/>
                </a:solidFill>
                <a:latin typeface="Arial"/>
              </a:rPr>
              <a:t>SISTEMA ESTRATEGICO DE MEJORA CONTIN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09480" y="5257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LIC. PATRICIA SALAZAR RO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4429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380880" y="1752480"/>
            <a:ext cx="81788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90720" y="22860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63de8"/>
                </a:solidFill>
                <a:latin typeface="Arial"/>
              </a:rPr>
              <a:t>ELECCIÓN E IMPLEMENTACIÓN DE ESTRATEGIA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5257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.P. VIRGINIA NERI MONT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153324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Administración Estratégica</a:t>
            </a: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para la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4956120" cy="533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62320" y="2743200"/>
            <a:ext cx="2971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La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Calidad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puede entenderse como un </a:t>
            </a:r>
            <a:r>
              <a:rPr b="0" lang="en-US" sz="2400" spc="-1" strike="noStrike" u="sng">
                <a:solidFill>
                  <a:srgbClr val="063de8"/>
                </a:solidFill>
                <a:uFillTx/>
                <a:latin typeface="Arial"/>
              </a:rPr>
              <a:t>camino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, o una </a:t>
            </a:r>
            <a:r>
              <a:rPr b="0" lang="en-US" sz="2400" spc="-1" strike="noStrike" u="sng">
                <a:solidFill>
                  <a:srgbClr val="063de8"/>
                </a:solidFill>
                <a:uFillTx/>
                <a:latin typeface="Arial"/>
              </a:rPr>
              <a:t>meta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ejora continua hacia la excelenci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407120" cy="4613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Administración Estratégica</a:t>
            </a: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para la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190600"/>
            <a:ext cx="761976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63de8"/>
                </a:solidFill>
                <a:latin typeface="Arial"/>
              </a:rPr>
              <a:t>No usamos junto a CALIDAD la palabra "</a:t>
            </a:r>
            <a:r>
              <a:rPr b="0" lang="es-ES_tradnl" sz="2800" spc="-1" strike="noStrike" u="sng">
                <a:solidFill>
                  <a:srgbClr val="063de8"/>
                </a:solidFill>
                <a:uFillTx/>
                <a:latin typeface="Arial"/>
              </a:rPr>
              <a:t>tota</a:t>
            </a:r>
            <a:r>
              <a:rPr b="0" lang="es-ES_tradnl" sz="2800" spc="-1" strike="noStrike">
                <a:solidFill>
                  <a:srgbClr val="063de8"/>
                </a:solidFill>
                <a:latin typeface="Arial"/>
              </a:rPr>
              <a:t>l", porque, por definición, "todo" es 100%, un término absoluto y medible, y la satisfacción, sorpresa y esfuerzo (que el cliente espera y valora de nosotros) son relativos y cambiantes: la calidad debe ser "total", si no, no es realmente pura calidad (es una mezcla de calidad y no-calidad). Para nosotros, calidad y calidad total son la misma 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63de8"/>
                </a:solidFill>
                <a:latin typeface="Arial"/>
              </a:rPr>
              <a:t>La Calidad del Servicio como elemento estrátegico para fideliza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752480"/>
            <a:ext cx="40384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En la actualidad, la búsqueda de la calidad en los servicios representa una de las principales tendencias en el sector de la distribución y es precisamente esta calidad lo que distingue a las empresas con éxito de aquellas que permanecen en la media.</a:t>
            </a:r>
            <a:r>
              <a:rPr b="0" lang="en-US" sz="36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944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63de8"/>
                </a:solidFill>
                <a:latin typeface="Arial"/>
              </a:rPr>
              <a:t>La Calidad del Servicio como elemento estrátegico para fideliza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1676520"/>
            <a:ext cx="58672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Un cliente fiel represen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1º.-Una ligera inversión comercial (menos publicidad y menos cost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2º.-Una compra media may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3º.-Un aumento del margen de beneficio, porque los clientes fieles aceptan mayores precios.</a:t>
            </a:r>
            <a:br>
              <a:rPr sz="2000"/>
            </a:b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4º.-Una estupenda herramienta de promoción, ya que el cliente fiel es un cliente satisfecho del servicio y productos ofrecidos, lo cual comentará a má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5º.- Por último, conservar un cliente resulta de 3 a 5 veces menos caro que conquistar uno nuevo en prospección. Pero ¿cómo conservar los clientes cuando la competencia es cada vez más fero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196704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63de8"/>
                </a:solidFill>
                <a:latin typeface="Arial"/>
              </a:rPr>
              <a:t>Las Estrategias de Fideliz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676520"/>
            <a:ext cx="4647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63de8"/>
                </a:solidFill>
                <a:latin typeface="Arial"/>
              </a:rPr>
              <a:t>*  De Defen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Arial"/>
              </a:rPr>
              <a:t>Consiste en reducir los posibles motivos de descontento del consumidor. Se basa en la mejora de la calidad de los servicios y de los produ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63de8"/>
                </a:solidFill>
                <a:latin typeface="Arial"/>
              </a:rPr>
              <a:t>*  De Ofensi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Arial"/>
              </a:rPr>
              <a:t>Se trata de que exista una fuerte relación entre el cliente y la empresa, haciendo sentir al cliente especial frente al resto de meros consumidores, transmitiéndole el sentimiento de pertenecer a una comun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28191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cfeb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63de8"/>
                </a:solidFill>
                <a:latin typeface="Arial"/>
              </a:rPr>
              <a:t>La Planeación Estratég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784080" cy="812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3840" y="1447920"/>
            <a:ext cx="82040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836720"/>
            <a:ext cx="40388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Una característica de orientar la calidad como una estrategia primaria del negocio es que el programa de control de calidad debe fomentar firme y positivamente el sano crecimiento del negocio. Debe proporcionar una ventaja competitiva principal para la compañ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28036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5T19:46:06Z</dcterms:created>
  <dc:creator>Sergio</dc:creator>
  <dc:description/>
  <dc:language>en-US</dc:language>
  <cp:lastModifiedBy>BEATRIZ AYALA</cp:lastModifiedBy>
  <cp:lastPrinted>1999-10-04T04:16:19Z</cp:lastPrinted>
  <dcterms:modified xsi:type="dcterms:W3CDTF">1999-10-04T04:58:34Z</dcterms:modified>
  <cp:revision>15</cp:revision>
  <dc:subject/>
  <dc:title>Sin título de diapositiva</dc:title>
</cp:coreProperties>
</file>