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0360" y="6485040"/>
            <a:ext cx="354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M. Howard, Sierrra Nevada 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1447920"/>
            <a:ext cx="8261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ead Support in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#2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M. Ho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rra Nevada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ks, N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76440" y="3753000"/>
            <a:ext cx="1533600" cy="1757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57840" y="2714760"/>
            <a:ext cx="157176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tends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class IsAThrea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extends Thread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ivate int per_thread_data_her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IsAThread(...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// construct thread and give it arg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run(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... execution takes place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lements Runn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the Jav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chan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an interface contract without inheriting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A’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the interface contract : run(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separat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ch it to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n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ness’ is priv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0720" y="3124080"/>
            <a:ext cx="23004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lements Runn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class HasAThrea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implements Run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ivate int per_thread_data_her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hread my_threa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HasAThread(...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y_thread = new Thread(thi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y_thread.star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run() { body of thread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on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ee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illiseco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icit readin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o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’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_PRIORITY..MAX_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guarantee that highest priority ready thread will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time attempts to alleviate sta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UGL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roup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ThreadGroup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es groups of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assigned to group when constru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the limits and security constraints on threads in the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enumeration over a set of threads or a set of threa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 tree of threa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tual Ex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3000" y="16765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intrinsic part of the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objects in Java derive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instance of an object has an associated ‘mutex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class has an object associated with it and therefore every class has a mut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chronized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w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20574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antees atomicity of exec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to the instance of the targe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mutex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s asymmetric lock/un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other term for it i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34200" y="1000080"/>
            <a:ext cx="143820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chronize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ynchronized public void ExampleMetho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s the entire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ce mutex is locked on e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ce mutex is unlocked on 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from the Vector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07280" y="4305240"/>
            <a:ext cx="17366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chronized :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final synchronized vo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Into(Object anArray[]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int i = elementCou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while (i--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anArray[i] = elementData[i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va Threa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362320"/>
            <a:ext cx="8261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Constr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/Condition Variable Design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62520" y="4162320"/>
            <a:ext cx="25909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chronize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bl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lock of code {...} can be loc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must provide an instance of an object to lock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ock is relative to tha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ed on entry to b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cked on exit from b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4065480"/>
            <a:ext cx="23907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chronize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bl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Object nextElement(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synchronized (vector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if(count&lt;vector.elementCount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return vector.elementData[count++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hrow new NoSuchElementException("VectorEnmrtr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133720" y="3352680"/>
            <a:ext cx="1981080" cy="1143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14800" y="4267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lease mu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chronize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class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676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s : runtime representations of clas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object in the system is an instance of som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Class has one of these descriptor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possible to synchronize on the Class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protect static variables that maintain information global to th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562720" y="1981080"/>
            <a:ext cx="1295280" cy="10666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43000" y="2209680"/>
            <a:ext cx="1295280" cy="1219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7920" y="2514600"/>
            <a:ext cx="1295280" cy="1219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52480" y="2819520"/>
            <a:ext cx="1295280" cy="1219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57400" y="3124080"/>
            <a:ext cx="1295280" cy="1219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362320" y="3429000"/>
            <a:ext cx="1295280" cy="1219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666880" y="3733920"/>
            <a:ext cx="1295280" cy="1219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971800" y="4038480"/>
            <a:ext cx="1295280" cy="1219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76720" y="4343400"/>
            <a:ext cx="1295280" cy="1219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81280" y="4648320"/>
            <a:ext cx="1295280" cy="1219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743200" y="2209680"/>
            <a:ext cx="2590920" cy="15264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29200" y="3200400"/>
            <a:ext cx="762120" cy="152388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chronize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class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X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 double x; // not atomic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modifyX(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  <a:ea typeface="Courier New"/>
              </a:rPr>
              <a:t>synchronized (this.getClass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  <a:ea typeface="Courier New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  <a:ea typeface="Courier New"/>
              </a:rPr>
              <a:t>x += 1.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olat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atile keyword prevents certain optim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, register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condition variables should be marked volat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optimizes the heck out of your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ment of primitive data types in Java is atomic except double and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56480" y="828720"/>
            <a:ext cx="11685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olat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X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volatile int x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testX(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x = 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while(x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clrX() { x = 0;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cep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1080"/>
            <a:ext cx="82612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Java exception model and synchronization models are integ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wing an exception within a synchronized method releases the 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ving a synch’ed block via a thrown exception releases the 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hod can’t throw an exce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402160" y="685800"/>
            <a:ext cx="21510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cep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f(Object o) throws Exception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ry { synchronized (o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condition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hrow new Exception1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o_work() // throws Exception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 catch (Exception2) {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19320" y="3962520"/>
            <a:ext cx="2133360" cy="2286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419720" y="4876920"/>
            <a:ext cx="266688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va.lang.object AP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y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member of clas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as a thread queue associated with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hread queue is FI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19400" y="1666800"/>
            <a:ext cx="26463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/RTOS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able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sks =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ndependent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s, queues, pipes, memory al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 grained execution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priorities, suspend,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delays and time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final void wait(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hrows InterruptedEx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 thread until a notification arr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n API call, not a language key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ing is done on an object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only be called in a synchronized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133720"/>
            <a:ext cx="82612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y in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eases the lock on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ing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captures the 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ing thread retains all other lock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alway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ch InterruptedExce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hread can wait with or without time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ynchronized void wait_for_signal(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wai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atch (InterruptedException e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// always have to catc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ify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final void notify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 the object to wake up the next thread on its wait que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wakes up one thread on the wait que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only be called within a synchronized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ws: IllegalMonitorStateException (a RuntimeExcep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if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ynchronized void signal_to_one_waiter(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otify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91120" y="930240"/>
            <a:ext cx="35337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ify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final void notifyAll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 the object to wake up all the threads on its wait que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only be called within a synchronized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ws: IllegalMonitorStateException (a RuntimeException),  If the current thread is not the owner of the Object's moni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ify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ynchronized void signal_waiters(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notifyAll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181480" y="3429000"/>
            <a:ext cx="2362320" cy="23623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505320"/>
            <a:ext cx="2362320" cy="23623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adl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adlocks can still occur if there is a cycle in the calling sequence of synchronized meth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3733920"/>
            <a:ext cx="1752480" cy="7621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 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43000" y="4876920"/>
            <a:ext cx="1752480" cy="7621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 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86400" y="3657600"/>
            <a:ext cx="1752480" cy="7621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 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486400" y="4800600"/>
            <a:ext cx="1752480" cy="7621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 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4114800"/>
            <a:ext cx="2590920" cy="10666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95480" y="4038480"/>
            <a:ext cx="2514600" cy="114300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olation of Synchro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ed guarantees mutual exclusion WHERE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synchronize some methods but not others, you will hav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piler doesn’t know what needs to be synchr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java compiler knows a lot about your 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olation of Synchro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synchronized void op1(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operate on data structure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             void op2(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operate on data structure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/RTOS Model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752480"/>
            <a:ext cx="80326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consistent programming model for complex mutual exclusion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Per Threa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ping RTOS constructs to program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ing mapp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advertent Asymme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/Condition Vari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thread-safe access to an resource or set of resources with the capability for threads to wait for changes of condition in the object and respond to the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ources need to be allocated among competing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need to be able to wait fo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y waiting needs to be avo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plic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resource shared among client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not permanently allo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threads need to wait for an arbitrary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threads allocate and release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plic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waiting for a resource object need to wait for an object to become available rather than simply poll for avail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ariation of the pattern is used if threads request specific instances of the resource rather than any instance of the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pattern is not used when there is a single instance of the resource and the client threads can use a binary critical section to provide thread safe a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85960" y="1752480"/>
            <a:ext cx="7367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icip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the external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the mutual exclusion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s th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instances of the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77040" y="3581280"/>
            <a:ext cx="1978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llabo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stores the Instances as required by the particula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ector stores Inte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ler accesses Resource to get and put In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ler gets and puts Integers into the v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equ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to Imp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ly in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lementation : 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WHILE (resource is not avail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(condition not satisfi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w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ND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Get the resource from the p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xit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ign Patter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developed in architecture of buildings and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ture a problem and its solution at a high level of 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 a key role in object oriented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a basis for effective reuse of soft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m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 al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Patter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996 Addison-Wes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lementation : P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put won’t work, handle 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nsert the object into the p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notif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or </a:t>
            </a: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notify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xit moni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unded Queue Cla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class BoundedQueue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Vector  m_vec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    m_siz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BoundedQueue(int size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m_vect = new Vector(siz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m_size = siz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unded Queue 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synchronized Integer Get(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ger i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while(m_vect.isEmpty() == true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ry { wai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 catch(InterruptedException e){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 = (Integer)m_vect.firstElemen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_vect.removeElement(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i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unded Queue P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ynchronized boolean Put (Integer i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m_vect.size() &gt;= m_size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fals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_vect.addElement(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otify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unded Queue GE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synchronized Integer Get(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ger i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while(m_vect.isEmpty() == true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ry { wait()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atch(InterruptedException e){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 = (Integer)m_vect.firstElemen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_vect.removeElement(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otifyAll(); // signal there is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i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unded Queue PU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ynchronized void Put(Integer i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while(m_vect.size() &gt;= m_size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ry { wait()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atch(InterruptedException e){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_vect.addElement(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otifyAll(); // signal a 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76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nagan, D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In A Nutsh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 O’Reilly and Asso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nold and Gosl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Java Programming Languag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 Addison-Wes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s, R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 Java 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96 Microsoft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, D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urrent Programming in Jav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97 Addison-Wes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mma, et al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Patter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 Addison-Wes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ign Patter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33720" y="2209680"/>
            <a:ext cx="65851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the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 the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 the S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ze the Con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threading in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905120"/>
            <a:ext cx="8261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ing is an integrated feature of the language and underlying virtual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in scope to RT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cross target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deterministic in sense that RTOS programmers are used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threading in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7652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ingle main application thread is present at start of execution of either an applet or an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plication can spawn mor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ystem has some number of invisible threads running in support of IO and 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tends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48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Thre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capsulates the properties of individual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’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it, pass argu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implementation of ‘per thread’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hod (base cla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takes place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ness’ is publ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M. Howard</dc:creator>
  <dc:description/>
  <dc:language>en-US</dc:language>
  <cp:lastModifiedBy>Craig Chapman</cp:lastModifiedBy>
  <cp:revision>0</cp:revision>
  <dc:subject/>
  <dc:title>Thread Support in the Java Language</dc:title>
</cp:coreProperties>
</file>